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4C6B76-7580-44CD-A809-EAB3A22AD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F43B9-5F71-4721-BF79-107570E60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B0F2C-F961-40D6-943E-BF24B6E092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868F4F-194C-40A5-BEC4-D292E42C76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BA7F9-80C9-44ED-B111-509BF8C5C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A520A-DFD2-4B10-B9DB-AC26BD8EC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E91E4-E4F3-44FF-A687-36DF8A933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F7CBE-2292-4709-931F-5794CB22B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19D30-6936-47A3-9C5A-E27862240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3A990-4FA7-4354-A73C-672572CFF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083CB-5271-4176-A1CF-D654B2869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11FCA-5629-4305-B793-68E505C990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B7C58-7B8B-4286-8D42-8BE986F40B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hyperlink" Target="http://www.foundersofamerica.com/Bush_p06.htm" TargetMode="External"/><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3333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xing Water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Zac G, Luke G, Ryan 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0.54601 0.31158 C 0.54653 0.30973 0.54879 0.30533 0.5474 0.30626 C 0.54497 0.30741 0.54427 0.31204 0.54201 0.31343 C 0.53333 0.31876 0.52431 0.32338 0.51493 0.32593 C 0.50208 0.3294 0.48872 0.32963 0.47569 0.33149 C 0.34983 0.32292 0.37813 0.3507 0.31354 0.29908 C 0.2967 0.28542 0.28472 0.27686 0.27431 0.25394 C 0.26632 0.23635 0.25417 0.19815 0.25417 0.19815 C 0.24444 0.1426 0.23889 0.13033 0.25 0.06297 C 0.25122 0.05463 0.25885 0.0507 0.26354 0.04491 C 0.27188 0.03426 0.28194 0.02223 0.29201 0.01436 C 0.31267 -0.00185 0.33559 -0.01112 0.35816 -0.02175 C 0.3717 -0.028 0.38524 -0.03379 0.39879 -0.03981 C 0.40347 -0.04189 0.41354 -0.04328 0.41354 -0.04328 C 0.42743 -0.03842 0.44323 -0.03912 0.45538 -0.02893 C 0.47344 -0.01388 0.48681 0.03241 0.49601 0.05579 C 0.5276 0.13565 0.54427 0.20487 0.55677 0.29352 C 0.56094 0.39028 0.56684 0.42825 0.52986 0.54399 C 0.51597 0.58727 0.45642 0.60325 0.42986 0.61436 C 0.37222 0.60533 0.31372 0.60301 0.25677 0.58727 C 0.24045 0.58288 0.22813 0.56528 0.21354 0.55487 C 0.20208 0.54676 0.19028 0.53889 0.17847 0.53149 C 0.16111 0.52084 0.14983 0.51505 0.13646 0.49723 C 0.13177 0.48473 0.13073 0.48473 0.13108 0.46829 C 0.13194 0.43172 0.12951 0.39445 0.13507 0.35857 C 0.13854 0.33774 0.17344 0.28056 0.18247 0.26482 C 0.15139 0.18496 0.1625 0.20996 0.10538 0.09723 C 0.06754 0.02246 0.02257 -0.06782 -0.04045 -0.10648 C -0.05226 -0.09861 -0.06719 -0.09652 -0.07569 -0.0831 C -0.08559 -0.06736 -0.08889 -0.00671 -0.09045 0.01251 C -0.09253 0.07431 -0.11354 0.15116 -0.05799 0.17107 C -0.03906 0.16575 -0.01875 0.16598 -0.00121 0.15487 C 0.00885 0.14838 0.05469 0.07362 0.05816 0.06667 C 0.13125 -0.08078 0.18889 -0.24305 0.22969 -0.41087 C 0.22396 -0.42939 0.22587 -0.4581 0.21215 -0.46666 C 0.16476 -0.49583 0.12795 -0.43564 0.10278 -0.39999 C 0.04115 -0.31273 -0.0151 -0.21087 -0.08108 -0.128 C -0.10694 -0.0956 -0.13455 -0.06851 -0.16076 -0.03611 C -0.17656 -0.01666 -0.18941 0.00602 -0.20538 0.02524 C -0.2842 0.00232 -0.35382 -0.05879 -0.41476 -0.128 C -0.42483 -0.15624 -0.44219 -0.19953 -0.42708 -0.23263 C -0.42083 -0.24583 -0.3684 -0.27314 -0.36354 -0.27569 C -0.30434 -0.30555 -0.24358 -0.31597 -0.18108 -0.32453 C -0.15816 -0.32268 -0.13403 -0.32847 -0.11215 -0.31921 C -0.10556 -0.31597 -0.10642 -0.30115 -0.10677 -0.29189 C -0.10781 -0.26226 -0.10573 -0.22986 -0.11615 -0.20393 C -0.1309 -0.16689 -0.18212 -0.16273 -0.20538 -0.15694 C -0.25937 -0.16342 -0.31476 -0.15949 -0.36753 -0.17685 C -0.38385 -0.18194 -0.45729 -0.2405 -0.48385 -0.27037 C -0.48628 -0.29074 -0.48333 -0.27175 -0.48785 -0.29189 C -0.48837 -0.29421 -0.48976 -0.30162 -0.48924 -0.2993 C -0.46996 -0.23657 -0.46267 -0.16643 -0.45 -0.10092 C -0.43246 -0.01087 -0.4191 0.08149 -0.40538 0.17292 C -0.40121 0.20001 -0.39983 0.22477 -0.39184 0.25024 C -0.38819 0.31806 -0.39896 0.39005 -0.38108 0.45394 C -0.37465 0.47755 -0.36441 0.40857 -0.35417 0.38727 C -0.34306 0.36459 -0.33108 0.34237 -0.31753 0.32246 C -0.28628 0.27547 -0.23628 0.22454 -0.20538 0.17292 C -0.20399 0.16598 -0.20035 0.15672 -0.21476 0.16389 C -0.22153 0.16737 -0.22656 0.17477 -0.23246 0.1801 C -0.24549 0.21065 -0.25642 0.24306 -0.27153 0.272 C -0.27552 0.27987 -0.27986 0.28727 -0.28368 0.29538 C -0.28976 0.30788 -0.2934 0.31922 -0.30121 0.32963 C -0.32986 0.32038 -0.30764 0.33149 -0.32569 0.31343 C -0.34531 0.29376 -0.325 0.31968 -0.33785 0.30255 C -0.35521 0.31852 -0.35243 0.31366 -0.33646 0.37477 C -0.33194 0.39213 -0.32083 0.40533 -0.31215 0.41968 C -0.2941 0.45001 -0.26493 0.49954 -0.23368 0.50811 C -0.22587 0.47014 -0.22986 0.42963 -0.23906 0.3926 C -0.14878 0.26019 -0.24358 0.39051 0.11892 0.36575 C 0.12795 0.36505 0.13507 0.35487 0.14323 0.34954 C 0.14774 0.34653 0.15677 0.34051 0.15677 0.34051 C 0.16146 0.29213 0.13021 0.24977 0.10677 0.21968 C 0.08316 0.18936 0.04288 0.14607 0.01094 0.12963 C -0.00417 0.12176 -0.02066 0.12107 -0.03646 0.1169 C -0.06476 0.12292 -0.09496 0.12061 -0.12153 0.13496 C -0.13611 0.14283 -0.14392 0.16413 -0.15399 0.1801 C -0.18611 0.23172 -0.20694 0.28241 -0.21615 0.34769 C -0.21701 0.3632 -0.21562 0.3794 -0.21892 0.39445 C -0.21979 0.39792 -0.22309 0.38889 -0.22431 0.38542 C -0.22934 0.3713 -0.23368 0.35672 -0.23785 0.34213 C -0.26007 0.2632 -0.2776 0.19792 -0.28906 0.1169 C -0.28681 0.09144 -0.29062 0.06436 -0.28246 0.04144 C -0.27587 0.02292 -0.22292 0.01598 -0.21615 0.01436 C -0.18507 0.01505 -0.1526 0.00394 -0.12292 0.01621 C -0.10365 0.02385 -0.09184 0.05024 -0.0783 0.07014 C -0.0408 0.12501 -0.04167 0.13565 -0.02014 0.20001 C -0.01771 0.22107 -0.00208 0.30394 -0.02691 0.32061 C -0.04635 0.33357 -0.07014 0.31343 -0.09184 0.30973 C -0.11389 0.28496 -0.12049 0.27917 -0.13906 0.25209 C -0.15295 0.23172 -0.17309 0.18982 -0.19462 0.17292 C -0.23455 0.07477 -0.27049 -0.02592 -0.31215 -0.12268 C -0.33958 -0.1868 -0.31632 -0.14189 -0.34462 -0.19837 C -0.35069 -0.21041 -0.35729 -0.22245 -0.36354 -0.23449 C -0.36684 -0.2405 -0.37431 -0.25231 -0.37431 -0.25231 C -0.38941 -0.30439 -0.35087 -0.33634 -0.32292 -0.35347 C -0.25712 -0.39305 -0.18698 -0.40231 -0.11615 -0.40902 C -0.05451 -0.40486 0.00851 -0.41412 0.06892 -0.39652 C 0.07969 -0.39328 0.07465 -0.36782 0.07413 -0.35347 C 0.07292 -0.31087 0.07205 -0.26782 0.06354 -0.22708 C 0.05868 -0.20393 0.01076 -0.11736 0.00139 -0.09745 C -0.02326 -0.04513 -0.03993 0.00764 -0.0526 0.06667 C -0.05347 0.07871 -0.05851 0.09121 -0.05538 0.10255 C -0.04115 0.15348 0.03229 0.10649 0.04063 0.1044 C 0.0533 0.09746 0.06597 0.09213 0.0783 0.0845 C 0.09236 0.07593 0.11892 0.05579 0.11892 0.05579 C 0.12031 0.05348 0.1316 0.03681 0.12031 0.03959 C 0.0941 0.04607 0.06892 0.0588 0.04323 0.06829 C 0.00955 0.11389 -0.02274 0.16158 -0.05799 0.20533 C -0.07656 0.22825 -0.09514 0.25093 -0.11354 0.27385 C -0.11684 0.27778 -0.12292 0.28635 -0.12292 0.28635 C -0.10191 0.147 0.00399 0.02431 0.05139 -0.09027 C 0.10729 -0.22546 0.08438 -0.15763 0.1217 -0.29374 C 0.12517 -0.32777 0.13802 -0.3912 0.11615 -0.42361 C 0.10573 -0.43935 0.08646 -0.43796 0.0717 -0.44513 C 0.01545 -0.43726 -0.04167 -0.43634 -0.09722 -0.42175 C -0.10382 -0.42013 -0.10851 -0.40694 -0.10677 -0.39837 C -0.1033 -0.38171 -0.09514 -0.36504 -0.08368 -0.35694 C -0.06753 -0.3456 -0.04774 -0.34791 -0.02969 -0.34421 C 0.03611 -0.33055 0.02049 -0.33356 0.08247 -0.33171 C 0.09358 -0.33055 0.12726 -0.33171 0.11615 -0.328 C 0.09653 -0.32152 0.07569 -0.32523 0.05521 -0.32268 C 0.03281 -0.3199 0.01042 -0.31481 -0.01215 -0.3118 C -0.04948 -0.30694 -0.12431 -0.2993 -0.12431 -0.2993 C -0.13924 -0.29537 -0.16215 -0.29606 -0.16892 -0.27407 C -0.15903 -0.25046 -0.16389 -0.25439 -0.12969 -0.25416 C -0.07517 -0.2537 -0.02066 -0.25763 0.03385 -0.25949 C 0.0184 -0.26157 0.0033 -0.26481 -0.01215 -0.26504 C -0.08924 -0.26597 -0.16823 -0.28611 -0.24323 -0.26319 C -0.26007 -0.2581 -0.23229 -0.21643 -0.21892 -0.20185 C -0.19861 -0.17962 -0.1717 -0.17106 -0.14722 -0.15856 C -0.08941 -0.12939 -0.05955 -0.12106 -0.00121 -0.1081 C 0.04149 -0.09861 0.08229 -0.09861 -0.02014 -0.10462 C -0.11528 -0.10347 -0.21042 -0.1074 -0.30538 -0.10092 C -0.35816 -0.09722 -0.35365 -0.09444 -0.37431 -0.05601 C -0.36215 -0.03379 -0.35625 -0.00185 -0.33785 0.01065 C -0.30833 0.03056 -0.27344 0.03311 -0.24045 0.0338 C -0.13281 0.03681 -0.02517 0.0257 0.08247 0.02153 C 0.10434 0.01251 0.12778 0.00718 0.14879 -0.00555 C 0.15677 -0.01041 0.18819 -0.04467 0.16215 -0.06319 C 0.14705 -0.07407 0.12813 -0.07083 0.11094 -0.07222 C 0.08125 -0.07476 0.05139 -0.07453 0.0217 -0.07569 C -0.06319 -0.06874 -0.26198 -0.13657 -0.14462 0.05024 C -0.12656 0.07871 -0.09687 0.08982 -0.07153 0.10602 C -0.01371 0.14376 0.03559 0.16436 0.09722 0.18542 C 0.12222 0.19399 0.14774 0.20001 0.17292 0.20718 C 0.25069 0.22848 0.2467 0.22709 0.22431 0.21968 C 0.20729 0.23102 0.18733 0.23704 0.17292 0.25394 C 0.11667 0.32038 0.10313 0.39376 0.07309 0.4845 C 0.07569 0.53264 0.06493 0.58565 0.08108 0.62848 C 0.16111 0.84213 0.19566 0.80903 0.34583 0.85209 C 0.55955 0.84977 0.81372 1.01227 0.98646 0.84491 C 1.08802 0.74653 0.81059 0.60626 0.7217 0.4882 C 0.58681 0.30903 0.44879 0.10579 0.29063 -0.03981 C 0.25208 -0.07523 0.21076 -0.10648 0.16754 -0.12986 C 0.11042 -0.16041 -0.03542 -0.18124 0.13108 -0.15324 C 0.17813 -0.13703 0.30694 -0.08888 0.3566 -0.0831 C 0.39097 -0.07916 0.42535 -0.08657 0.45955 -0.08842 C 0.4901 -0.10648 0.52639 -0.11273 0.55139 -0.14236 C 0.63229 -0.23842 0.45017 -0.4037 0.43924 -0.41273 C 0.34115 -0.49282 0.22656 -0.52916 0.12031 -0.58749 C -0.0684 -0.58518 -0.26215 -0.63842 -0.44601 -0.58032 C -0.49826 -0.56365 -0.36181 -0.49004 -0.31753 -0.44884 C -0.21059 -0.34907 -0.17778 -0.33425 -0.06354 -0.25601 C -0.03611 -0.23726 -0.12431 -0.28263 -0.14583 -0.3118 C -0.33229 -0.56481 -0.22812 -0.48124 -0.44601 -0.58749 C -0.61198 -0.5662 -0.89844 -0.66249 -0.71753 -0.26504 C -0.65069 -0.11851 -0.54219 -0.01319 -0.44601 0.1007 C -0.38403 0.17362 -0.24462 0.29352 -0.24462 0.29352 C -0.32326 0.33288 -0.4092 0.28936 -0.48785 0.27014 C -0.52378 0.26135 -0.5599 0.25463 -0.59583 0.24676 C -0.64444 0.27269 -0.71979 0.26088 -0.74184 0.32431 C -0.80799 0.51366 -0.65799 0.70788 -0.56476 0.78913 C -0.52118 0.82709 -0.46562 0.83102 -0.41632 0.85209 C -0.29236 0.82755 -0.06979 0.94167 -0.04462 0.77801 C -0.01632 0.59399 -0.2434 0.51135 -0.34323 0.37801 C -0.4066 0.29376 -0.54201 0.09885 -0.63108 0.03774 C -0.66458 0.01459 -0.70486 0.01737 -0.74184 0.00718 C -0.69948 0.13959 -0.72969 0.05093 -0.49583 0.24676 C -0.45347 0.28218 -0.41753 0.3382 -0.36892 0.35301 C -0.28715 0.37801 -0.20139 0.35903 -0.11753 0.36204 C -0.05885 0.30718 0.12639 0.14538 0.15677 0.06482 C 0.17344 0.01991 0.15851 -0.04374 0.13507 -0.0831 C -0.07118 -0.43495 -0.0908 -0.42777 -0.30399 -0.58749 C -0.34861 -0.58564 -0.46927 -0.62476 -0.43785 -0.58217 C -0.39306 -0.52083 -0.21389 -0.50185 -0.13785 -0.49027 C 0.26597 -0.6456 0.20243 -0.59629 -0.35538 -0.54074 C -0.4 -0.50162 -0.45087 -0.47314 -0.48924 -0.42361 C -0.50868 -0.39837 -0.53767 -0.35509 -0.52292 -0.32453 C -0.45885 -0.19305 -0.36267 -0.09467 -0.27691 0.01251 C -0.21059 0.09538 -0.11181 0.1919 -0.02014 0.22524 C 0.01285 0.23704 0.04809 0.2301 0.08247 0.23241 C 0.1783 0.19121 0.23264 0.17547 0.3217 0.10255 C 0.32587 0.09885 0.32257 0.08751 0.31875 0.08288 C 0.28524 0.04098 0.25017 0.000469999999999998 0.21215 -0.03449 C 0.12118 -0.11689 0.02569 -0.1905 -0.06753 -0.26851 C -0.10486 -0.25717 -0.14931 -0.2655 -0.17969 -0.23449 C -0.37049 -0.0368 -0.02674 0.20764 0.03924 0.29908 C 0.08837 0.3669 0.1408 0.43033 0.19063 0.49723 C 0.24028 0.56366 0.27153 0.66737 0.33767 0.69908 C 0.4441 0.75001 0.55052 0.80116 0.65677 0.85209 C 0.71076 0.82755 0.83958 0.84908 0.81892 0.77801 C 0.76771 0.60255 0.61892 0.51158 0.51892 0.37801 C 0.3842 0.19862 0.15069 -0.17824 -0.06076 -0.27569 C -0.09444 -0.2912 -0.13108 -0.29143 -0.16615 -0.2993 C -0.20174 -0.2956 -0.23767 -0.29583 -0.27292 -0.28842 C -0.34826 -0.27245 -0.49722 -0.22893 -0.49722 -0.22893 C -0.57882 -0.25787 -0.66233 -0.278 -0.74184 -0.3155 C -0.74809 -0.31851 -0.74167 -0.33865 -0.73507 -0.34074 C -0.72205 -0.3449 -0.70885 -0.33356 -0.69583 -0.32986 C -0.67795 -0.31967 -0.68976 -0.32499 -0.69722 -0.33703 C -0.71267 -0.36226 -0.72691 -0.38865 -0.74184 -0.41458 C -0.73872 -0.47106 -0.76215 -0.54351 -0.73247 -0.58379 C -0.71233 -0.61087 -0.68021 -0.55162 -0.65677 -0.52986 C -0.56701 -0.44699 -0.48108 -0.35717 -0.39323 -0.27037 C -0.30017 -0.17847 -0.23628 -0.0993 -0.1283 -0.04166 C -0.09219 -0.02245 -0.0526 -0.01759 -0.01476 -0.00555 C 0.0026 -0.0287 0.00052 -0.02268 -0.03368 -0.08657 C -0.0691 -0.15231 -0.11007 -0.21273 -0.15121 -0.27222 C -0.31389 -0.5074 -0.26285 -0.4456 -0.45 -0.58749 C -0.45955 -0.58379 -0.48594 -0.58472 -0.4783 -0.57662 C -0.44184 -0.53773 -0.3941 -0.52175 -0.35538 -0.48657 C -0.30764 -0.44282 -0.26319 -0.39236 -0.22014 -0.34074 C -0.04566 -0.13148 0.11493 0.18218 0.34583 0.27547 C 0.38021 0.28936 0.41719 0.28264 0.45278 0.28635 C 0.49323 0.26482 0.5401 0.25764 0.57431 0.22153 C 0.67847 0.11158 0.86215 -0.14629 0.86215 -0.14629 C 0.87969 -0.20185 0.92587 -0.25486 0.91493 -0.31365 C 0.86597 -0.57893 0.61563 -0.55162 0.47847 -0.58749 C 0.25122 -0.58634 0.02292 -0.61921 -0.2026 -0.58379 C -0.25694 -0.57523 -0.32083 -0.52893 -0.33785 -0.45949 C -0.36823 -0.33611 -0.37361 -0.18541 -0.3283 -0.07037 C -0.26267 0.09676 -0.1283 0.1963 -0.0283 0.32963 C 0.02083 0.39514 0.06979 0.46042 0.11892 0.52593 C 0.21476 0.65371 0.27448 0.76598 0.40139 0.83241 C 0.4349 0.85001 0.47257 0.84561 0.50816 0.85209 C 0.59462 0.81065 0.68403 0.77894 0.76754 0.72778 C 0.81146 0.70093 0.84931 0.65834 0.88785 0.61968 C 0.92726 0.57987 0.87899 0.60487 0.90538 0.5926 C 0.93247 0.62269 1.00521 0.72246 0.98646 0.68264 C 0.94844 0.60209 0.89531 0.53565 0.84601 0.46667 C 0.74844 0.3301 0.64601 0.20001 0.54601 0.06667 C 0.50069 0.00602 0.45642 -0.05787 0.40278 -0.10462 C 0.31458 -0.18124 0.21632 -0.23541 0.12309 -0.30092 C 0.08281 -0.29699 -0.06996 -0.30671 -0.0783 -0.19837 C -0.08333 -0.13217 -0.03663 -0.07546 -0.00399 -0.02523 C 0.08854 0.1169 0.19497 0.24167 0.29462 0.37477 C 0.48004 0.62269 0.38785 0.5257 0.57431 0.6882 C 0.73767 0.67639 0.84583 0.72732 0.95677 0.54954 C 0.97951 0.51297 0.97656 0.45811 0.98646 0.41251 C 0.9599 0.36204 0.93837 0.30626 0.90677 0.26112 C 0.86372 0.19954 0.68715 0.0051 0.62708 -0.04328 C 0.58906 -0.07407 0.54601 -0.09143 0.50538 -0.1155 C 0.42066 -0.09074 0.32847 -0.09398 0.25122 -0.04166 C 0.11354 0.05209 0.09913 0.16297 0.05139 0.32246 C 0.13351 0.44584 0.23333 0.60301 0.32569 0.71158 C 0.36962 0.7632 0.41944 0.8051 0.46632 0.85209 C 0.54375 0.81737 0.63403 0.81413 0.69879 0.74769 C 0.80799 0.63565 0.92778 0.50764 0.9717 0.33334 C 0.99132 0.25533 0.89271 0.20695 0.85 0.14769 C 0.54531 -0.27546 0.66285 -0.16643 0.42431 -0.34791 C 0.09774 -0.2493 0.32535 -0.34606 -0.15799 0.30973 C -0.2033 0.3713 -0.28906 0.50047 -0.28906 0.50047 C -0.23281 0.61274 -0.1533 0.80926 -0.04462 0.85209 C 0.03247 0.88195 0.11563 0.84352 0.19601 0.83959 C 0.24097 0.78913 0.28854 0.74237 0.33108 0.6882 C 0.49063 0.48288 0.80139 0.06088 0.80139 0.06088 C 0.7901 0.01065 0.79063 -0.04745 0.76754 -0.09027 C 0.67743 -0.2574 0.62813 -0.25972 0.50278 -0.32453 C 0.17986 -0.21412 0.41111 -0.3206 -0.07292 0.31343 C -0.12378 0.3801 -0.22431 0.51528 -0.22431 0.51528 C -0.22795 0.56297 -0.25226 0.6169 -0.23507 0.65926 C -0.10278 0.98588 -0.0408 0.82501 0.16892 0.7044 C 0.26892 0.57107 0.3691 0.43774 0.46892 0.3044 C 0.57483 0.16274 0.78646 -0.12083 0.78646 -0.12083 C 0.71528 -0.30347 0.71059 -0.35879 0.56892 -0.4956 C 0.52396 -0.53888 0.46806 -0.55694 0.41754 -0.58749 C -0.02951 -0.35763 0.23715 -0.5449 -0.29045 0.15857 C -0.34132 0.22639 -0.39253 0.29399 -0.44323 0.36204 C -0.49236 0.42755 -0.59045 0.55857 -0.59045 0.55857 C -0.57882 0.61204 -0.5849 0.6794 -0.55538 0.71876 C -0.52812 0.7551 -0.47569 0.78218 -0.44323 0.75487 C -0.32812 0.65672 -0.24705 0.50116 -0.15 0.37292 C -0.0434 0.23218 0.16754 -0.05231 0.16754 -0.05231 C 0.15712 -0.10393 0.16198 -0.1662 0.13646 -0.2074 C 0.04913 -0.3493 -0.16215 -0.58749 -0.16215 -0.58749 C -0.28559 -0.56226 -0.42674 -0.60046 -0.53247 -0.5118 C -0.85816 -0.23842 -0.74392 0.1088 -0.59462 0.46667 C -0.57014 0.52524 -0.50712 0.53264 -0.46354 0.56575 C -0.21146 0.4676 -0.37569 0.55857 -0.04722 0.12061 C 0.05868 -0.0206 0.27014 -0.30277 0.27014 -0.30277 C 0.28854 -0.35856 0.3441 -0.41435 0.32569 -0.47037 C 0.3026 -0.54074 0.23438 -0.57986 0.17708 -0.58749 C 0.000349999999999989 -0.61087 -0.17795 -0.56944 -0.35538 -0.56041 C -0.45677 -0.44398 -0.56806 -0.3412 -0.65937 -0.21087 C -0.69861 -0.15486 -0.74618 -0.08541 -0.74184 -0.00902 C -0.73385 0.12894 -0.66441 0.24792 -0.62569 0.37639 C -0.58507 0.35602 -0.5375 0.35186 -0.50399 0.31528 C -0.21076 -0.00531999999999999 -0.21181 -0.06805 -0.02969 -0.46134 C -0.27795 -0.67199 -0.29323 -0.7368 -0.72969 -0.56944 C -0.77743 -0.55115 -0.73785 -0.43726 -0.74184 -0.37129 C -0.69687 0.28982 -0.82535 0.31806 -0.53646 0.61968 C -0.49965 0.65811 -0.45469 0.67963 -0.41354 0.70973 C -0.36979 0.67362 -0.32014 0.64815 -0.28246 0.60139 C 0.0625 0.17732 0.08576 0.13033 0.29879 -0.2074 C 0.26181 -0.26736 0.22743 -0.33055 0.18785 -0.38773 C -0.11684 -0.82685 0.02188 -0.5824 -0.67569 -0.31712 C -0.69774 -0.25162 -0.73785 -0.19236 -0.74184 -0.12083 C -0.75816 0.17477 -0.72604 0.28172 -0.55538 0.43959 C -0.52274 0.46991 -0.47969 0.472 -0.44184 0.4882 C -0.1717 0.21088 0.06302 -0.11712 0.28108 -0.46504 C 0.24375 -0.50578 0.21719 -0.58842 0.16892 -0.58749 C -1.06476 -0.56342 -0.74306 -0.67361 -0.73507 0.85209 C -0.68576 0.54862 -0.74618 0.99051 -0.74184 0.58357 C -0.73889 0.29977 -0.7184 0.01667 -0.70677 -0.26666 C -0.5934 -0.15046 -0.49826 0.00325 -0.32014 -0.11921 C -0.19896 -0.20208 -0.11007 -0.35555 -0.0283 -0.50092 C -0.01215 -0.52986 0.0474 -0.58935 0.02031 -0.58749 C -0.23559 -0.57083 -0.48785 -0.49861 -0.74184 -0.45416 C -0.69097 -0.29259 -0.66701 -0.11064 -0.58906 0.03056 C -0.56823 0.06806 -0.5184 0.02501 -0.48507 0.01065 C -0.44219 -0.00787 -0.40139 -0.03657 -0.36215 -0.06666 C -0.17552 -0.20949 -0.03299 -0.47245 0.17031 -0.56944 C 0.20451 -0.58564 0.24236 -0.58148 0.2783 -0.58749 C 0.30573 -0.55532 0.30399 -0.56689 0.23646 -0.5155 C 0.19757 -0.48611 0.1566 -0.46157 0.11493 -0.43981 C -0.01719 -0.37106 -0.13628 -0.34513 -0.25 -0.23611 C -0.28472 -0.203 -0.31215 -0.15833 -0.34323 -0.11921 C -0.08993 0.42292 -0.24427 0.15695 0.13507 0.66274 C 0.16667 0.70487 0.21632 0.71088 0.25677 0.73496 C 0.29601 0.71575 0.34045 0.70973 0.37431 0.67732 C 0.54149 0.51598 0.57743 0.35232 0.67986 0.10811 C 0.57986 -0.02476 0.47969 -0.15717 0.37986 -0.29027 C 0.32917 -0.35787 0.29288 -0.45208 0.22847 -0.49374 C 0.18004 -0.52499 0.13194 -0.55624 0.08385 -0.58749 C 0.04653 -0.57615 0.00174 -0.58518 -0.0283 -0.55324 C -0.14566 -0.428 -0.27795 -0.30578 -0.34722 -0.128 C -0.37153 -0.06574 -0.29844 -0.00231 -0.26354 0.05024 C -0.03559 0.39376 -0.03212 0.38288 0.17431 0.58542 C 0.42396 0.41042 0.26042 0.54561 0.5974 0.09885 C 0.64757 0.03241 0.74879 -0.0993 0.74879 -0.0993 C 0.64774 -0.35277 0.63802 -0.4368 0.36094 -0.58749 C 0.28247 -0.63009 0.19132 -0.58495 0.10677 -0.58379 C -0.2283 -0.13912 -0.12656 -0.35138 -0.26354 -0.01087 C -0.1875 0.13866 -0.08177 0.4169 0.11215 0.33866 C 0.24705 0.28403 0.31111 0.07153 0.41094 -0.06157 C 0.46163 -0.12916 0.56354 -0.26319 0.56354 -0.26319 C 0.50816 -0.37129 0.49479 -0.57013 0.3974 -0.58749 C -0.00225999999999998 -0.65902 -0.10087 -0.46018 -0.30399 -0.18935 C -0.32344 -0.13472 -0.38333 -0.07893 -0.36215 -0.02523 C -0.3 0.1338 -0.17969 0.2382 -0.08646 0.36737 C 0.0783 0.59538 0.01476 0.53126 0.18785 0.65024 C 0.21076 0.62431 0.57778 0.22963 0.64201 0.10255 C 0.66389 0.05926 0.66181 0.00163 0.6717 -0.04884 C 0.32847 -0.50416 0.48681 -0.33842 0.22309 -0.58749 C 0.08125 -0.52499 -0.07483 -0.50324 -0.2026 -0.39999 C -0.38073 -0.25624 -0.48437 -0.03657 -0.59722 0.17825 C -0.55712 0.2419 -0.53472 0.3382 -0.47691 0.36922 C -0.43681 0.39075 -0.38785 0.3463 -0.35538 0.30811 C -0.18941 0.11389 0.11094 -0.31921 0.11094 -0.31921 C 0.10052 -0.3706 0.10642 -0.43402 0.07986 -0.47407 C -0.14496 -0.81226 -0.5658 -0.33981 -0.74184 -0.25231 C -0.72049 -0.12731 -0.72969 0.01436 -0.6783 0.12246 C -0.60625 0.27385 -0.38646 0.49329 -0.38646 0.49329 C -0.34271 0.4588 -0.29358 0.4338 -0.25538 0.38913 C 0.06493 0.01436 0.01667 0.05163 0.21215 -0.38773 C -0.05608 -0.74837 -0.02951 -0.82476 -0.63507 -0.3912 C -0.72448 -0.32708 -0.70625 -0.13773 -0.74184 -0.01087 C -0.64236 0.12246 -0.54253 0.25556 -0.44323 0.38913 C -0.39358 0.45602 -0.29462 0.59098 -0.29462 0.59098 C -0.25538 0.57153 -0.2092 0.56876 -0.17691 0.53311 C -0.06771 0.41413 0.12309 0.13496 0.12309 0.13496 C 0.11493 0.00325 0.13438 -0.13634 0.09879 -0.25949 C 0.06302 -0.3831 -0.12205 -0.52083 -0.2 -0.58749 C -0.38056 -0.57314 -0.60486 -0.70162 -0.74184 -0.54421 C -0.99566 -0.25231 -0.69184 0.06922 -0.57969 0.22153 C -0.33108 0.14977 -0.48819 0.22338 -0.16753 -0.21087 C -0.12118 -0.27361 -0.03108 -0.40185 -0.03108 -0.40185 C -0.04948 -0.45648 -0.04427 -0.54513 -0.08646 -0.56597 C -0.31562 -0.67962 -0.53142 -0.53611 -0.74184 -0.45046 C -0.66927 -0.29305 -0.66198 0.00232 -0.52431 0.02153 C -0.38385 0.04098 -0.32413 -0.2449 -0.22431 -0.37847 C -0.175 -0.44444 -0.12604 -0.51064 -0.07691 -0.57662 C -0.04705 -0.61666 0.09201 -0.59398 0.05 -0.58749 C -0.21371 -0.54606 -0.47795 -0.51064 -0.74184 -0.47222 C -0.72934 -0.38634 -0.7434 0.62338 -0.34583 0.47385 C -0.21007 0.42269 -0.14687 0.20718 -0.04722 0.07385 C 0.00226 0.00763999999999999 0.10139 -0.12453 0.10139 -0.12453 C 0.08299 -0.18032 0.07344 -0.24305 0.04601 -0.29189 C -0.06962 -0.49837 -0.09809 -0.48912 -0.25399 -0.58749 C -0.39792 -0.52199 -0.55556 -0.49699 -0.68507 -0.3912 C -0.73108 -0.3537 -0.74653 -0.26087 -0.74184 -0.18935 C -0.72101 0.13264 -0.64531 0.17755 -0.5 0.37477 C -0.45677 0.34283 -0.40677 0.32338 -0.37031 0.27917 C 0.04896 -0.22499 -0.00538 -0.14351 0.19063 -0.528 C -0.10503 -0.6581 -0.4125 -0.81435 -0.74184 -0.58379 C -0.86389 -0.49837 -0.73924 -0.21643 -0.73785 -0.03263 C -0.67187 -0.09606 -0.63767 -0.20486 -0.60122 -0.29745 C -0.58889 -0.32916 -0.57986 -0.36226 -0.56892 -0.39467 C -0.56285 -0.41273 -0.5566 -0.43703 -0.54184 -0.44328 C -0.51146 -0.43842 -0.48108 -0.4368 -0.45139 -0.42893 C -0.40903 -0.41782 -0.36875 -0.38981 -0.32569 -0.38379 C -0.30851 -0.37013 -0.33142 -0.38912 -0.3 -0.35694 C -0.26597 -0.32222 -0.29115 -0.34999 -0.26076 -0.32453 C -0.25556 -0.32013 -0.25121 -0.31412 -0.24583 -0.30995 C -0.22899 -0.29675 -0.22847 -0.30092 -0.21076 -0.29189 C -0.18125 -0.27662 -0.15295 -0.25694 -0.12292 -0.24328 C -0.12118 -0.23726 -0.11962 -0.23101 -0.11753 -0.22523 C -0.10694 -0.19537 -0.09601 -0.16504 -0.08507 -0.13518 C -0.07656 -0.11203 -0.06667 -0.07939 -0.05 -0.06504 C -0.04375 -0.05254 -0.02951 -0.04699 -0.02014 -0.03796 C -0.0151 -0.02407 -0.00799 -0.01134 -2.77778E-007 8.88889E-006 E">
                                      <p:cBhvr>
                                        <p:cTn id="6" dur="2000" fill="hold"/>
                                        <p:tgtEl>
                                          <p:spTgt spid="41"/>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emph" presetID="8">
                                  <p:stCondLst>
                                    <p:cond delay="0"/>
                                  </p:stCondLst>
                                  <p:childTnLst>
                                    <p:animRot by="21600000">
                                      <p:cBhvr>
                                        <p:cTn id="10" dur="5000" fill="hold"/>
                                        <p:tgtEl>
                                          <p:spTgt spid="4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0f010"/>
            </a:gs>
            <a:gs pos="100000">
              <a:srgbClr val="ff00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for loving, caring, and listening to our presentati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2438280" y="304920"/>
            <a:ext cx="3981600" cy="1085760"/>
          </a:xfrm>
          <a:prstGeom prst="rect">
            <a:avLst/>
          </a:prstGeom>
          <a:ln w="0">
            <a:noFill/>
          </a:ln>
        </p:spPr>
      </p:pic>
      <p:pic>
        <p:nvPicPr>
          <p:cNvPr id="63" name="" descr="Ronald Reagan picture photo quote fine art print poster">
            <a:hlinkClick r:id="rId2"/>
          </p:cNvPr>
          <p:cNvPicPr/>
          <p:nvPr/>
        </p:nvPicPr>
        <p:blipFill>
          <a:blip r:embed="rId3"/>
          <a:srcRect l="18286" t="9115" r="22267" b="42209"/>
          <a:stretch/>
        </p:blipFill>
        <p:spPr>
          <a:xfrm>
            <a:off x="1981080" y="2819520"/>
            <a:ext cx="4876920" cy="365760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62"/>
                                        </p:tgtEl>
                                        <p:attrNameLst>
                                          <p:attrName>style.visibility</p:attrName>
                                        </p:attrNameLst>
                                      </p:cBhvr>
                                      <p:to>
                                        <p:strVal val="visible"/>
                                      </p:to>
                                    </p:set>
                                    <p:anim calcmode="lin" valueType="num">
                                      <p:cBhvr additive="base">
                                        <p:cTn id="178" dur="500" fill="hold"/>
                                        <p:tgtEl>
                                          <p:spTgt spid="62"/>
                                        </p:tgtEl>
                                        <p:attrNameLst>
                                          <p:attrName>ppt_x</p:attrName>
                                        </p:attrNameLst>
                                      </p:cBhvr>
                                      <p:tavLst>
                                        <p:tav tm="0">
                                          <p:val>
                                            <p:strVal val="#ppt_x"/>
                                          </p:val>
                                        </p:tav>
                                        <p:tav tm="100000">
                                          <p:val>
                                            <p:strVal val="#ppt_x"/>
                                          </p:val>
                                        </p:tav>
                                      </p:tavLst>
                                    </p:anim>
                                    <p:anim calcmode="lin" valueType="num">
                                      <p:cBhvr additive="base">
                                        <p:cTn id="179"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4" presetSubtype="10">
                                  <p:stCondLst>
                                    <p:cond delay="0"/>
                                  </p:stCondLst>
                                  <p:childTnLst>
                                    <p:set>
                                      <p:cBhvr>
                                        <p:cTn id="183" dur="1" fill="hold">
                                          <p:stCondLst>
                                            <p:cond delay="0"/>
                                          </p:stCondLst>
                                        </p:cTn>
                                        <p:tgtEl>
                                          <p:spTgt spid="61">
                                            <p:txEl>
                                              <p:pRg st="0" end="0"/>
                                            </p:txEl>
                                          </p:spTgt>
                                        </p:tgtEl>
                                        <p:attrNameLst>
                                          <p:attrName>style.visibility</p:attrName>
                                        </p:attrNameLst>
                                      </p:cBhvr>
                                      <p:to>
                                        <p:strVal val="visible"/>
                                      </p:to>
                                    </p:set>
                                    <p:animEffect filter="randombar(horizontal)" transition="in">
                                      <p:cBhvr additive="repl">
                                        <p:cTn id="184" dur="500"/>
                                        <p:tgtEl>
                                          <p:spTgt spid="61">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1">
                                  <p:stCondLst>
                                    <p:cond delay="0"/>
                                  </p:stCondLst>
                                  <p:childTnLst>
                                    <p:set>
                                      <p:cBhvr>
                                        <p:cTn id="188" dur="1" fill="hold">
                                          <p:stCondLst>
                                            <p:cond delay="0"/>
                                          </p:stCondLst>
                                        </p:cTn>
                                        <p:tgtEl>
                                          <p:spTgt spid="63"/>
                                        </p:tgtEl>
                                        <p:attrNameLst>
                                          <p:attrName>style.visibility</p:attrName>
                                        </p:attrNameLst>
                                      </p:cBhvr>
                                      <p:to>
                                        <p:strVal val="visible"/>
                                      </p:to>
                                    </p:set>
                                    <p:animEffect filter="fade" transition="in">
                                      <p:cBhvr additive="repl">
                                        <p:cTn id="189" dur="770"/>
                                        <p:tgtEl>
                                          <p:spTgt spid="63"/>
                                        </p:tgtEl>
                                      </p:cBhvr>
                                    </p:animEffect>
                                    <p:animScale>
                                      <p:cBhvr>
                                        <p:cTn id="190" dur="770" fill="hold"/>
                                        <p:tgtEl>
                                          <p:spTgt spid="63"/>
                                        </p:tgtEl>
                                      </p:cBhvr>
                                      <p:from x="10000" y="10000"/>
                                      <p:to x="200000" y="450000"/>
                                    </p:animScale>
                                    <p:animScale>
                                      <p:cBhvr>
                                        <p:cTn id="191" dur="1230" fill="hold">
                                          <p:stCondLst>
                                            <p:cond delay="770"/>
                                          </p:stCondLst>
                                        </p:cTn>
                                        <p:tgtEl>
                                          <p:spTgt spid="63"/>
                                        </p:tgtEl>
                                      </p:cBhvr>
                                      <p:from x="200000" y="450000"/>
                                      <p:to x="100000" y="100000"/>
                                    </p:animScale>
                                    <p:set>
                                      <p:cBhvr>
                                        <p:cTn id="192" dur="770" fill="hold"/>
                                        <p:tgtEl>
                                          <p:spTgt spid="63"/>
                                        </p:tgtEl>
                                        <p:attrNameLst>
                                          <p:attrName>ppt_x</p:attrName>
                                        </p:attrNameLst>
                                      </p:cBhvr>
                                      <p:to>
                                        <p:strVal val="(0.5)"/>
                                      </p:to>
                                    </p:set>
                                    <p:anim calcmode="lin" valueType="num" from="(0.5)" to="(#ppt_x)">
                                      <p:cBhvr additive="repl">
                                        <p:cTn id="193" dur="1230" fill="hold">
                                          <p:stCondLst>
                                            <p:cond delay="770"/>
                                          </p:stCondLst>
                                        </p:cTn>
                                        <p:tgtEl>
                                          <p:spTgt spid="63"/>
                                        </p:tgtEl>
                                        <p:attrNameLst>
                                          <p:attrName>ppt_x</p:attrName>
                                        </p:attrNameLst>
                                      </p:cBhvr>
                                    </p:anim>
                                    <p:set>
                                      <p:cBhvr>
                                        <p:cTn id="194" dur="770" fill="hold"/>
                                        <p:tgtEl>
                                          <p:spTgt spid="63"/>
                                        </p:tgtEl>
                                        <p:attrNameLst>
                                          <p:attrName>ppt_y</p:attrName>
                                        </p:attrNameLst>
                                      </p:cBhvr>
                                      <p:to>
                                        <p:strVal val="(#ppt_y+0.4)"/>
                                      </p:to>
                                    </p:set>
                                    <p:anim calcmode="lin" valueType="num" from="(#ppt_y+0.4)" to="(#ppt_y)">
                                      <p:cBhvr additive="repl">
                                        <p:cTn id="195" dur="1230" fill="hold">
                                          <p:stCondLst>
                                            <p:cond delay="770"/>
                                          </p:stCondLst>
                                        </p:cTn>
                                        <p:tgtEl>
                                          <p:spTgt spid="6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0080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Fill three graduated cylinders with 50mL of room temperature wa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Heat 50mL of water until the water reaches 80 degrees Celsiu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Measure out 50mL of cold water and put into it three ice cub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dd the 80 degree water to the room temperature water.  Add ice water to the oth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Record the temperature of the mixed wat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mph" presetID="34">
                                  <p:stCondLst>
                                    <p:cond delay="0"/>
                                  </p:stCondLst>
                                  <p:iterate type="lt">
                                    <p:tmAbs val="500"/>
                                  </p:iterate>
                                  <p:childTnLst>
                                    <p:animMotion origin="layout" path="M 0 0 L 0 -0.07213 E">
                                      <p:cBhvr>
                                        <p:cTn id="16" dur="2500" autoRev="1" fill="hold">
                                          <p:stCondLst>
                                            <p:cond delay="0"/>
                                          </p:stCondLst>
                                        </p:cTn>
                                        <p:tgtEl>
                                          <p:spTgt spid="43"/>
                                        </p:tgtEl>
                                      </p:cBhvr>
                                    </p:animMotion>
                                    <p:animRot by="1500000">
                                      <p:cBhvr>
                                        <p:cTn id="17" dur="1250" fill="hold">
                                          <p:stCondLst>
                                            <p:cond delay="0"/>
                                          </p:stCondLst>
                                        </p:cTn>
                                        <p:tgtEl>
                                          <p:spTgt spid="43"/>
                                        </p:tgtEl>
                                        <p:attrNameLst>
                                          <p:attrName>r</p:attrName>
                                        </p:attrNameLst>
                                      </p:cBhvr>
                                    </p:animRot>
                                    <p:animRot by="-1500000">
                                      <p:cBhvr>
                                        <p:cTn id="18" dur="1250" fill="hold">
                                          <p:stCondLst>
                                            <p:cond delay="1250"/>
                                          </p:stCondLst>
                                        </p:cTn>
                                        <p:tgtEl>
                                          <p:spTgt spid="43"/>
                                        </p:tgtEl>
                                        <p:attrNameLst>
                                          <p:attrName>r</p:attrName>
                                        </p:attrNameLst>
                                      </p:cBhvr>
                                    </p:animRot>
                                    <p:animRot by="-1500000">
                                      <p:cBhvr>
                                        <p:cTn id="19" dur="1250" fill="hold">
                                          <p:stCondLst>
                                            <p:cond delay="2500"/>
                                          </p:stCondLst>
                                        </p:cTn>
                                        <p:tgtEl>
                                          <p:spTgt spid="43"/>
                                        </p:tgtEl>
                                        <p:attrNameLst>
                                          <p:attrName>r</p:attrName>
                                        </p:attrNameLst>
                                      </p:cBhvr>
                                    </p:animRot>
                                    <p:animRot by="1500000">
                                      <p:cBhvr>
                                        <p:cTn id="20" dur="1250" fill="hold">
                                          <p:stCondLst>
                                            <p:cond delay="3750"/>
                                          </p:stCondLst>
                                        </p:cTn>
                                        <p:tgtEl>
                                          <p:spTgt spid="43"/>
                                        </p:tgtEl>
                                        <p:attrNameLst>
                                          <p:attrName>r</p:attrName>
                                        </p:attrNameLst>
                                      </p:cBhvr>
                                    </p:animRo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6">
                                  <p:stCondLst>
                                    <p:cond delay="0"/>
                                  </p:stCondLst>
                                  <p:iterate type="lt">
                                    <p:tmAbs val="200"/>
                                  </p:iterate>
                                  <p:childTnLst>
                                    <p:set>
                                      <p:cBhvr>
                                        <p:cTn id="24" dur="1" fill="hold">
                                          <p:stCondLst>
                                            <p:cond delay="0"/>
                                          </p:stCondLst>
                                        </p:cTn>
                                        <p:tgtEl>
                                          <p:spTgt spid="44">
                                            <p:txEl>
                                              <p:pRg st="0" end="0"/>
                                            </p:txEl>
                                          </p:spTgt>
                                        </p:tgtEl>
                                        <p:attrNameLst>
                                          <p:attrName>style.visibility</p:attrName>
                                        </p:attrNameLst>
                                      </p:cBhvr>
                                      <p:to>
                                        <p:strVal val="visible"/>
                                      </p:to>
                                    </p:set>
                                    <p:anim calcmode="lin" valueType="num" by="(-#ppt_w*2)">
                                      <p:cBhvr additive="repl">
                                        <p:cTn id="25" dur="1000" autoRev="1" fill="hold">
                                          <p:stCondLst>
                                            <p:cond delay="0"/>
                                          </p:stCondLst>
                                        </p:cTn>
                                        <p:tgtEl>
                                          <p:spTgt spid="44">
                                            <p:txEl>
                                              <p:pRg st="0" end="0"/>
                                            </p:txEl>
                                          </p:spTgt>
                                        </p:tgtEl>
                                        <p:attrNameLst>
                                          <p:attrName>ppt_w</p:attrName>
                                        </p:attrNameLst>
                                      </p:cBhvr>
                                    </p:anim>
                                    <p:anim calcmode="lin" valueType="num" by="(#ppt_w*0.50)">
                                      <p:cBhvr additive="repl">
                                        <p:cTn id="26" dur="1000" autoRev="1" fill="hold">
                                          <p:stCondLst>
                                            <p:cond delay="0"/>
                                          </p:stCondLst>
                                        </p:cTn>
                                        <p:tgtEl>
                                          <p:spTgt spid="44">
                                            <p:txEl>
                                              <p:pRg st="0" end="0"/>
                                            </p:txEl>
                                          </p:spTgt>
                                        </p:tgtEl>
                                        <p:attrNameLst>
                                          <p:attrName>ppt_x</p:attrName>
                                        </p:attrNameLst>
                                      </p:cBhvr>
                                    </p:anim>
                                    <p:anim calcmode="lin" valueType="num" from="(-#ppt_h/2)" to="(#ppt_y)">
                                      <p:cBhvr additive="repl">
                                        <p:cTn id="27" dur="2000" fill="hold">
                                          <p:stCondLst>
                                            <p:cond delay="0"/>
                                          </p:stCondLst>
                                        </p:cTn>
                                        <p:tgtEl>
                                          <p:spTgt spid="44">
                                            <p:txEl>
                                              <p:pRg st="0" end="0"/>
                                            </p:txEl>
                                          </p:spTgt>
                                        </p:tgtEl>
                                        <p:attrNameLst>
                                          <p:attrName>ppt_y</p:attrName>
                                        </p:attrNameLst>
                                      </p:cBhvr>
                                    </p:anim>
                                    <p:animRot by="21600000">
                                      <p:cBhvr>
                                        <p:cTn id="28" dur="2000" fill="hold">
                                          <p:stCondLst>
                                            <p:cond delay="0"/>
                                          </p:stCondLst>
                                        </p:cTn>
                                        <p:tgtEl>
                                          <p:spTgt spid="44">
                                            <p:txEl>
                                              <p:pRg st="0" end="0"/>
                                            </p:txEl>
                                          </p:spTgt>
                                        </p:tgtEl>
                                        <p:attrNameLst>
                                          <p:attrName>r</p:attrName>
                                        </p:attrNameLst>
                                      </p:cBhvr>
                                    </p:animRo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6">
                                  <p:stCondLst>
                                    <p:cond delay="0"/>
                                  </p:stCondLst>
                                  <p:iterate type="lt">
                                    <p:tmAbs val="200"/>
                                  </p:iterate>
                                  <p:childTnLst>
                                    <p:set>
                                      <p:cBhvr>
                                        <p:cTn id="32" dur="1" fill="hold">
                                          <p:stCondLst>
                                            <p:cond delay="0"/>
                                          </p:stCondLst>
                                        </p:cTn>
                                        <p:tgtEl>
                                          <p:spTgt spid="44">
                                            <p:txEl>
                                              <p:pRg st="1" end="1"/>
                                            </p:txEl>
                                          </p:spTgt>
                                        </p:tgtEl>
                                        <p:attrNameLst>
                                          <p:attrName>style.visibility</p:attrName>
                                        </p:attrNameLst>
                                      </p:cBhvr>
                                      <p:to>
                                        <p:strVal val="visible"/>
                                      </p:to>
                                    </p:set>
                                    <p:anim calcmode="lin" valueType="num" by="(-#ppt_w*2)">
                                      <p:cBhvr additive="repl">
                                        <p:cTn id="33" dur="1000" autoRev="1" fill="hold">
                                          <p:stCondLst>
                                            <p:cond delay="0"/>
                                          </p:stCondLst>
                                        </p:cTn>
                                        <p:tgtEl>
                                          <p:spTgt spid="44">
                                            <p:txEl>
                                              <p:pRg st="1" end="1"/>
                                            </p:txEl>
                                          </p:spTgt>
                                        </p:tgtEl>
                                        <p:attrNameLst>
                                          <p:attrName>ppt_w</p:attrName>
                                        </p:attrNameLst>
                                      </p:cBhvr>
                                    </p:anim>
                                    <p:anim calcmode="lin" valueType="num" by="(#ppt_w*0.50)">
                                      <p:cBhvr additive="repl">
                                        <p:cTn id="34" dur="1000" autoRev="1" fill="hold">
                                          <p:stCondLst>
                                            <p:cond delay="0"/>
                                          </p:stCondLst>
                                        </p:cTn>
                                        <p:tgtEl>
                                          <p:spTgt spid="44">
                                            <p:txEl>
                                              <p:pRg st="1" end="1"/>
                                            </p:txEl>
                                          </p:spTgt>
                                        </p:tgtEl>
                                        <p:attrNameLst>
                                          <p:attrName>ppt_x</p:attrName>
                                        </p:attrNameLst>
                                      </p:cBhvr>
                                    </p:anim>
                                    <p:anim calcmode="lin" valueType="num" from="(-#ppt_h/2)" to="(#ppt_y)">
                                      <p:cBhvr additive="repl">
                                        <p:cTn id="35" dur="2000" fill="hold">
                                          <p:stCondLst>
                                            <p:cond delay="0"/>
                                          </p:stCondLst>
                                        </p:cTn>
                                        <p:tgtEl>
                                          <p:spTgt spid="44">
                                            <p:txEl>
                                              <p:pRg st="1" end="1"/>
                                            </p:txEl>
                                          </p:spTgt>
                                        </p:tgtEl>
                                        <p:attrNameLst>
                                          <p:attrName>ppt_y</p:attrName>
                                        </p:attrNameLst>
                                      </p:cBhvr>
                                    </p:anim>
                                    <p:animRot by="21600000">
                                      <p:cBhvr>
                                        <p:cTn id="36" dur="2000" fill="hold">
                                          <p:stCondLst>
                                            <p:cond delay="0"/>
                                          </p:stCondLst>
                                        </p:cTn>
                                        <p:tgtEl>
                                          <p:spTgt spid="44">
                                            <p:txEl>
                                              <p:pRg st="1" end="1"/>
                                            </p:txEl>
                                          </p:spTgt>
                                        </p:tgtEl>
                                        <p:attrNameLst>
                                          <p:attrName>r</p:attrName>
                                        </p:attrNameLst>
                                      </p:cBhvr>
                                    </p:animRo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6">
                                  <p:stCondLst>
                                    <p:cond delay="0"/>
                                  </p:stCondLst>
                                  <p:iterate type="lt">
                                    <p:tmAbs val="200"/>
                                  </p:iterate>
                                  <p:childTnLst>
                                    <p:set>
                                      <p:cBhvr>
                                        <p:cTn id="40" dur="1" fill="hold">
                                          <p:stCondLst>
                                            <p:cond delay="0"/>
                                          </p:stCondLst>
                                        </p:cTn>
                                        <p:tgtEl>
                                          <p:spTgt spid="44">
                                            <p:txEl>
                                              <p:pRg st="2" end="2"/>
                                            </p:txEl>
                                          </p:spTgt>
                                        </p:tgtEl>
                                        <p:attrNameLst>
                                          <p:attrName>style.visibility</p:attrName>
                                        </p:attrNameLst>
                                      </p:cBhvr>
                                      <p:to>
                                        <p:strVal val="visible"/>
                                      </p:to>
                                    </p:set>
                                    <p:anim calcmode="lin" valueType="num" by="(-#ppt_w*2)">
                                      <p:cBhvr additive="repl">
                                        <p:cTn id="41" dur="1000" autoRev="1" fill="hold">
                                          <p:stCondLst>
                                            <p:cond delay="0"/>
                                          </p:stCondLst>
                                        </p:cTn>
                                        <p:tgtEl>
                                          <p:spTgt spid="44">
                                            <p:txEl>
                                              <p:pRg st="2" end="2"/>
                                            </p:txEl>
                                          </p:spTgt>
                                        </p:tgtEl>
                                        <p:attrNameLst>
                                          <p:attrName>ppt_w</p:attrName>
                                        </p:attrNameLst>
                                      </p:cBhvr>
                                    </p:anim>
                                    <p:anim calcmode="lin" valueType="num" by="(#ppt_w*0.50)">
                                      <p:cBhvr additive="repl">
                                        <p:cTn id="42" dur="1000" autoRev="1" fill="hold">
                                          <p:stCondLst>
                                            <p:cond delay="0"/>
                                          </p:stCondLst>
                                        </p:cTn>
                                        <p:tgtEl>
                                          <p:spTgt spid="44">
                                            <p:txEl>
                                              <p:pRg st="2" end="2"/>
                                            </p:txEl>
                                          </p:spTgt>
                                        </p:tgtEl>
                                        <p:attrNameLst>
                                          <p:attrName>ppt_x</p:attrName>
                                        </p:attrNameLst>
                                      </p:cBhvr>
                                    </p:anim>
                                    <p:anim calcmode="lin" valueType="num" from="(-#ppt_h/2)" to="(#ppt_y)">
                                      <p:cBhvr additive="repl">
                                        <p:cTn id="43" dur="2000" fill="hold">
                                          <p:stCondLst>
                                            <p:cond delay="0"/>
                                          </p:stCondLst>
                                        </p:cTn>
                                        <p:tgtEl>
                                          <p:spTgt spid="44">
                                            <p:txEl>
                                              <p:pRg st="2" end="2"/>
                                            </p:txEl>
                                          </p:spTgt>
                                        </p:tgtEl>
                                        <p:attrNameLst>
                                          <p:attrName>ppt_y</p:attrName>
                                        </p:attrNameLst>
                                      </p:cBhvr>
                                    </p:anim>
                                    <p:animRot by="21600000">
                                      <p:cBhvr>
                                        <p:cTn id="44" dur="2000" fill="hold">
                                          <p:stCondLst>
                                            <p:cond delay="0"/>
                                          </p:stCondLst>
                                        </p:cTn>
                                        <p:tgtEl>
                                          <p:spTgt spid="44">
                                            <p:txEl>
                                              <p:pRg st="2" end="2"/>
                                            </p:txEl>
                                          </p:spTgt>
                                        </p:tgtEl>
                                        <p:attrNameLst>
                                          <p:attrName>r</p:attrName>
                                        </p:attrNameLst>
                                      </p:cBhvr>
                                    </p:animRo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6">
                                  <p:stCondLst>
                                    <p:cond delay="0"/>
                                  </p:stCondLst>
                                  <p:iterate type="lt">
                                    <p:tmAbs val="200"/>
                                  </p:iterate>
                                  <p:childTnLst>
                                    <p:set>
                                      <p:cBhvr>
                                        <p:cTn id="48" dur="1" fill="hold">
                                          <p:stCondLst>
                                            <p:cond delay="0"/>
                                          </p:stCondLst>
                                        </p:cTn>
                                        <p:tgtEl>
                                          <p:spTgt spid="44">
                                            <p:txEl>
                                              <p:pRg st="3" end="3"/>
                                            </p:txEl>
                                          </p:spTgt>
                                        </p:tgtEl>
                                        <p:attrNameLst>
                                          <p:attrName>style.visibility</p:attrName>
                                        </p:attrNameLst>
                                      </p:cBhvr>
                                      <p:to>
                                        <p:strVal val="visible"/>
                                      </p:to>
                                    </p:set>
                                    <p:anim calcmode="lin" valueType="num" by="(-#ppt_w*2)">
                                      <p:cBhvr additive="repl">
                                        <p:cTn id="49" dur="1000" autoRev="1" fill="hold">
                                          <p:stCondLst>
                                            <p:cond delay="0"/>
                                          </p:stCondLst>
                                        </p:cTn>
                                        <p:tgtEl>
                                          <p:spTgt spid="44">
                                            <p:txEl>
                                              <p:pRg st="3" end="3"/>
                                            </p:txEl>
                                          </p:spTgt>
                                        </p:tgtEl>
                                        <p:attrNameLst>
                                          <p:attrName>ppt_w</p:attrName>
                                        </p:attrNameLst>
                                      </p:cBhvr>
                                    </p:anim>
                                    <p:anim calcmode="lin" valueType="num" by="(#ppt_w*0.50)">
                                      <p:cBhvr additive="repl">
                                        <p:cTn id="50" dur="1000" autoRev="1" fill="hold">
                                          <p:stCondLst>
                                            <p:cond delay="0"/>
                                          </p:stCondLst>
                                        </p:cTn>
                                        <p:tgtEl>
                                          <p:spTgt spid="44">
                                            <p:txEl>
                                              <p:pRg st="3" end="3"/>
                                            </p:txEl>
                                          </p:spTgt>
                                        </p:tgtEl>
                                        <p:attrNameLst>
                                          <p:attrName>ppt_x</p:attrName>
                                        </p:attrNameLst>
                                      </p:cBhvr>
                                    </p:anim>
                                    <p:anim calcmode="lin" valueType="num" from="(-#ppt_h/2)" to="(#ppt_y)">
                                      <p:cBhvr additive="repl">
                                        <p:cTn id="51" dur="2000" fill="hold">
                                          <p:stCondLst>
                                            <p:cond delay="0"/>
                                          </p:stCondLst>
                                        </p:cTn>
                                        <p:tgtEl>
                                          <p:spTgt spid="44">
                                            <p:txEl>
                                              <p:pRg st="3" end="3"/>
                                            </p:txEl>
                                          </p:spTgt>
                                        </p:tgtEl>
                                        <p:attrNameLst>
                                          <p:attrName>ppt_y</p:attrName>
                                        </p:attrNameLst>
                                      </p:cBhvr>
                                    </p:anim>
                                    <p:animRot by="21600000">
                                      <p:cBhvr>
                                        <p:cTn id="52" dur="2000" fill="hold">
                                          <p:stCondLst>
                                            <p:cond delay="0"/>
                                          </p:stCondLst>
                                        </p:cTn>
                                        <p:tgtEl>
                                          <p:spTgt spid="44">
                                            <p:txEl>
                                              <p:pRg st="3" end="3"/>
                                            </p:txEl>
                                          </p:spTgt>
                                        </p:tgtEl>
                                        <p:attrNameLst>
                                          <p:attrName>r</p:attrName>
                                        </p:attrNameLst>
                                      </p:cBhvr>
                                    </p:animRo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6">
                                  <p:stCondLst>
                                    <p:cond delay="0"/>
                                  </p:stCondLst>
                                  <p:iterate type="lt">
                                    <p:tmAbs val="200"/>
                                  </p:iterate>
                                  <p:childTnLst>
                                    <p:set>
                                      <p:cBhvr>
                                        <p:cTn id="56" dur="1" fill="hold">
                                          <p:stCondLst>
                                            <p:cond delay="0"/>
                                          </p:stCondLst>
                                        </p:cTn>
                                        <p:tgtEl>
                                          <p:spTgt spid="44">
                                            <p:txEl>
                                              <p:pRg st="4" end="4"/>
                                            </p:txEl>
                                          </p:spTgt>
                                        </p:tgtEl>
                                        <p:attrNameLst>
                                          <p:attrName>style.visibility</p:attrName>
                                        </p:attrNameLst>
                                      </p:cBhvr>
                                      <p:to>
                                        <p:strVal val="visible"/>
                                      </p:to>
                                    </p:set>
                                    <p:anim calcmode="lin" valueType="num" by="(-#ppt_w*2)">
                                      <p:cBhvr additive="repl">
                                        <p:cTn id="57" dur="1000" autoRev="1" fill="hold">
                                          <p:stCondLst>
                                            <p:cond delay="0"/>
                                          </p:stCondLst>
                                        </p:cTn>
                                        <p:tgtEl>
                                          <p:spTgt spid="44">
                                            <p:txEl>
                                              <p:pRg st="4" end="4"/>
                                            </p:txEl>
                                          </p:spTgt>
                                        </p:tgtEl>
                                        <p:attrNameLst>
                                          <p:attrName>ppt_w</p:attrName>
                                        </p:attrNameLst>
                                      </p:cBhvr>
                                    </p:anim>
                                    <p:anim calcmode="lin" valueType="num" by="(#ppt_w*0.50)">
                                      <p:cBhvr additive="repl">
                                        <p:cTn id="58" dur="1000" autoRev="1" fill="hold">
                                          <p:stCondLst>
                                            <p:cond delay="0"/>
                                          </p:stCondLst>
                                        </p:cTn>
                                        <p:tgtEl>
                                          <p:spTgt spid="44">
                                            <p:txEl>
                                              <p:pRg st="4" end="4"/>
                                            </p:txEl>
                                          </p:spTgt>
                                        </p:tgtEl>
                                        <p:attrNameLst>
                                          <p:attrName>ppt_x</p:attrName>
                                        </p:attrNameLst>
                                      </p:cBhvr>
                                    </p:anim>
                                    <p:anim calcmode="lin" valueType="num" from="(-#ppt_h/2)" to="(#ppt_y)">
                                      <p:cBhvr additive="repl">
                                        <p:cTn id="59" dur="2000" fill="hold">
                                          <p:stCondLst>
                                            <p:cond delay="0"/>
                                          </p:stCondLst>
                                        </p:cTn>
                                        <p:tgtEl>
                                          <p:spTgt spid="44">
                                            <p:txEl>
                                              <p:pRg st="4" end="4"/>
                                            </p:txEl>
                                          </p:spTgt>
                                        </p:tgtEl>
                                        <p:attrNameLst>
                                          <p:attrName>ppt_y</p:attrName>
                                        </p:attrNameLst>
                                      </p:cBhvr>
                                    </p:anim>
                                    <p:animRot by="21600000">
                                      <p:cBhvr>
                                        <p:cTn id="60" dur="2000" fill="hold">
                                          <p:stCondLst>
                                            <p:cond delay="0"/>
                                          </p:stCondLst>
                                        </p:cTn>
                                        <p:tgtEl>
                                          <p:spTgt spid="44">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eaeaea"/>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pos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purpose was to find out how energy is transferred between two different liqu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mph" presetID="6">
                                  <p:stCondLst>
                                    <p:cond delay="0"/>
                                  </p:stCondLst>
                                  <p:childTnLst>
                                    <p:animScale>
                                      <p:cBhvr>
                                        <p:cTn id="66" dur="2000" fill="hold"/>
                                        <p:tgtEl>
                                          <p:spTgt spid="45"/>
                                        </p:tgtEl>
                                      </p:cBhvr>
                                      <p:to x="150000" y="150000"/>
                                    </p:animScale>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46">
                                            <p:txEl>
                                              <p:pRg st="0" end="0"/>
                                            </p:txEl>
                                          </p:spTgt>
                                        </p:tgtEl>
                                        <p:attrNameLst>
                                          <p:attrName>style.visibility</p:attrName>
                                        </p:attrNameLst>
                                      </p:cBhvr>
                                      <p:to>
                                        <p:strVal val="visible"/>
                                      </p:to>
                                    </p:set>
                                    <p:animEffect filter="diamond(in)" transition="in">
                                      <p:cBhvr additive="repl">
                                        <p:cTn id="71" dur="30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000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estio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took room temperature water and mixed it with 80 degrees water, what would the new temperature b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mph" presetID="36">
                                  <p:stCondLst>
                                    <p:cond delay="0"/>
                                  </p:stCondLst>
                                  <p:iterate type="lt">
                                    <p:tmAbs val="25"/>
                                  </p:iterate>
                                  <p:childTnLst>
                                    <p:animScale>
                                      <p:cBhvr>
                                        <p:cTn id="77" dur="250" autoRev="1" fill="hold">
                                          <p:stCondLst>
                                            <p:cond delay="0"/>
                                          </p:stCondLst>
                                        </p:cTn>
                                        <p:tgtEl>
                                          <p:spTgt spid="47"/>
                                        </p:tgtEl>
                                      </p:cBhvr>
                                      <p:to x="80000" y="100000"/>
                                    </p:animScale>
                                    <p:anim calcmode="lin" valueType="num" by="(#ppt_w*0.10)">
                                      <p:cBhvr additive="repl">
                                        <p:cTn id="78" dur="250" autoRev="1" fill="hold">
                                          <p:stCondLst>
                                            <p:cond delay="0"/>
                                          </p:stCondLst>
                                        </p:cTn>
                                        <p:tgtEl>
                                          <p:spTgt spid="47"/>
                                        </p:tgtEl>
                                        <p:attrNameLst>
                                          <p:attrName>ppt_x</p:attrName>
                                        </p:attrNameLst>
                                      </p:cBhvr>
                                    </p:anim>
                                    <p:anim calcmode="lin" valueType="num" by="(-#ppt_w*0.10)">
                                      <p:cBhvr additive="repl">
                                        <p:cTn id="79" dur="250" autoRev="1" fill="hold">
                                          <p:stCondLst>
                                            <p:cond delay="0"/>
                                          </p:stCondLst>
                                        </p:cTn>
                                        <p:tgtEl>
                                          <p:spTgt spid="47"/>
                                        </p:tgtEl>
                                        <p:attrNameLst>
                                          <p:attrName>ppt_y</p:attrName>
                                        </p:attrNameLst>
                                      </p:cBhvr>
                                    </p:anim>
                                    <p:animRot by="-480000">
                                      <p:cBhvr>
                                        <p:cTn id="80" dur="250" autoRev="1" fill="hold">
                                          <p:stCondLst>
                                            <p:cond delay="0"/>
                                          </p:stCondLst>
                                        </p:cTn>
                                        <p:tgtEl>
                                          <p:spTgt spid="47"/>
                                        </p:tgtEl>
                                        <p:attrNameLst>
                                          <p:attrName>r</p:attrName>
                                        </p:attrNameLst>
                                      </p:cBhvr>
                                    </p:animRo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48">
                                            <p:txEl>
                                              <p:pRg st="0" end="0"/>
                                            </p:txEl>
                                          </p:spTgt>
                                        </p:tgtEl>
                                        <p:attrNameLst>
                                          <p:attrName>style.visibility</p:attrName>
                                        </p:attrNameLst>
                                      </p:cBhvr>
                                      <p:to>
                                        <p:strVal val="visible"/>
                                      </p:to>
                                    </p:set>
                                    <p:animEffect filter="blinds(horizontal)" transition="in">
                                      <p:cBhvr additive="repl">
                                        <p:cTn id="85" dur="5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808080"/>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V &amp; DV</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IV is the temper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our DV was the temperature of the mixed wat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49"/>
                                        </p:tgtEl>
                                        <p:attrNameLst>
                                          <p:attrName>style.visibility</p:attrName>
                                        </p:attrNameLst>
                                      </p:cBhvr>
                                      <p:to>
                                        <p:strVal val="visible"/>
                                      </p:to>
                                    </p:set>
                                    <p:animEffect filter="box(in)" transition="in">
                                      <p:cBhvr additive="repl">
                                        <p:cTn id="92" dur="500"/>
                                        <p:tgtEl>
                                          <p:spTgt spid="49"/>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5">
                                  <p:stCondLst>
                                    <p:cond delay="0"/>
                                  </p:stCondLst>
                                  <p:childTnLst>
                                    <p:set>
                                      <p:cBhvr>
                                        <p:cTn id="96" dur="1" fill="hold">
                                          <p:stCondLst>
                                            <p:cond delay="0"/>
                                          </p:stCondLst>
                                        </p:cTn>
                                        <p:tgtEl>
                                          <p:spTgt spid="50">
                                            <p:txEl>
                                              <p:pRg st="0" end="0"/>
                                            </p:txEl>
                                          </p:spTgt>
                                        </p:tgtEl>
                                        <p:attrNameLst>
                                          <p:attrName>style.visibility</p:attrName>
                                        </p:attrNameLst>
                                      </p:cBhvr>
                                      <p:to>
                                        <p:strVal val="visible"/>
                                      </p:to>
                                    </p:set>
                                    <p:anim calcmode="lin" valueType="num">
                                      <p:cBhvr additive="repl">
                                        <p:cTn id="97" dur="1000" fill="hold">
                                          <p:stCondLst>
                                            <p:cond delay="0"/>
                                          </p:stCondLst>
                                        </p:cTn>
                                        <p:tgtEl>
                                          <p:spTgt spid="50">
                                            <p:txEl>
                                              <p:pRg st="0" end="0"/>
                                            </p:txEl>
                                          </p:spTgt>
                                        </p:tgtEl>
                                        <p:attrNameLst>
                                          <p:attrName>r</p:attrName>
                                        </p:attrNameLst>
                                      </p:cBhvr>
                                      <p:tavLst>
                                        <p:tav tm="0">
                                          <p:val>
                                            <p:strVal val="-90"/>
                                          </p:val>
                                        </p:tav>
                                        <p:tav tm="100000">
                                          <p:val>
                                            <p:strVal val="0"/>
                                          </p:val>
                                        </p:tav>
                                      </p:tavLst>
                                    </p:anim>
                                    <p:anim calcmode="lin" valueType="num">
                                      <p:cBhvr additive="repl">
                                        <p:cTn id="98" dur="1000" fill="hold">
                                          <p:stCondLst>
                                            <p:cond delay="0"/>
                                          </p:stCondLst>
                                        </p:cTn>
                                        <p:tgtEl>
                                          <p:spTgt spid="50">
                                            <p:txEl>
                                              <p:pRg st="0" end="0"/>
                                            </p:txEl>
                                          </p:spTgt>
                                        </p:tgtEl>
                                        <p:attrNameLst>
                                          <p:attrName>ppt_w</p:attrName>
                                        </p:attrNameLst>
                                      </p:cBhvr>
                                      <p:tavLst>
                                        <p:tav tm="0">
                                          <p:val>
                                            <p:strVal val="#ppt_w"/>
                                          </p:val>
                                        </p:tav>
                                        <p:tav tm="100000">
                                          <p:val>
                                            <p:strVal val="#ppt_w*.05"/>
                                          </p:val>
                                        </p:tav>
                                      </p:tavLst>
                                    </p:anim>
                                    <p:anim calcmode="lin" valueType="num">
                                      <p:cBhvr additive="repl">
                                        <p:cTn id="99" dur="1000" fill="hold">
                                          <p:stCondLst>
                                            <p:cond delay="1000"/>
                                          </p:stCondLst>
                                        </p:cTn>
                                        <p:tgtEl>
                                          <p:spTgt spid="50">
                                            <p:txEl>
                                              <p:pRg st="0" end="0"/>
                                            </p:txEl>
                                          </p:spTgt>
                                        </p:tgtEl>
                                        <p:attrNameLst>
                                          <p:attrName>ppt_w</p:attrName>
                                        </p:attrNameLst>
                                      </p:cBhvr>
                                      <p:tavLst>
                                        <p:tav tm="0">
                                          <p:val>
                                            <p:strVal val="#ppt_w*.05"/>
                                          </p:val>
                                        </p:tav>
                                        <p:tav tm="100000">
                                          <p:val>
                                            <p:strVal val="#ppt_w"/>
                                          </p:val>
                                        </p:tav>
                                      </p:tavLst>
                                    </p:anim>
                                    <p:anim calcmode="lin" valueType="num">
                                      <p:cBhvr additive="repl">
                                        <p:cTn id="100" dur="2000" fill="hold"/>
                                        <p:tgtEl>
                                          <p:spTgt spid="50">
                                            <p:txEl>
                                              <p:pRg st="0" end="0"/>
                                            </p:txEl>
                                          </p:spTgt>
                                        </p:tgtEl>
                                        <p:attrNameLst>
                                          <p:attrName>ppt_h</p:attrName>
                                        </p:attrNameLst>
                                      </p:cBhvr>
                                      <p:tavLst>
                                        <p:tav tm="0">
                                          <p:val>
                                            <p:strVal val="#ppt_h"/>
                                          </p:val>
                                        </p:tav>
                                        <p:tav tm="100000">
                                          <p:val>
                                            <p:strVal val="#ppt_h"/>
                                          </p:val>
                                        </p:tav>
                                      </p:tavLst>
                                    </p:anim>
                                    <p:anim calcmode="lin" valueType="num">
                                      <p:cBhvr additive="repl">
                                        <p:cTn id="101" dur="1000" fill="hold">
                                          <p:stCondLst>
                                            <p:cond delay="0"/>
                                          </p:stCondLst>
                                        </p:cTn>
                                        <p:tgtEl>
                                          <p:spTgt spid="50">
                                            <p:txEl>
                                              <p:pRg st="0" end="0"/>
                                            </p:txEl>
                                          </p:spTgt>
                                        </p:tgtEl>
                                        <p:attrNameLst>
                                          <p:attrName>ppt_x</p:attrName>
                                        </p:attrNameLst>
                                      </p:cBhvr>
                                      <p:tavLst>
                                        <p:tav tm="0">
                                          <p:val>
                                            <p:strVal val="#ppt_x+.4"/>
                                          </p:val>
                                        </p:tav>
                                        <p:tav tm="100000">
                                          <p:val>
                                            <p:strVal val="#ppt_x"/>
                                          </p:val>
                                        </p:tav>
                                      </p:tavLst>
                                    </p:anim>
                                    <p:anim calcmode="lin" valueType="num">
                                      <p:cBhvr additive="repl">
                                        <p:cTn id="102" dur="1000" fill="hold">
                                          <p:stCondLst>
                                            <p:cond delay="0"/>
                                          </p:stCondLst>
                                        </p:cTn>
                                        <p:tgtEl>
                                          <p:spTgt spid="50">
                                            <p:txEl>
                                              <p:pRg st="0" end="0"/>
                                            </p:txEl>
                                          </p:spTgt>
                                        </p:tgtEl>
                                        <p:attrNameLst>
                                          <p:attrName>ppt_y</p:attrName>
                                        </p:attrNameLst>
                                      </p:cBhvr>
                                      <p:tavLst>
                                        <p:tav tm="0">
                                          <p:val>
                                            <p:strVal val="#ppt_y-.2"/>
                                          </p:val>
                                        </p:tav>
                                        <p:tav tm="100000">
                                          <p:val>
                                            <p:strVal val="#ppt_y+.1"/>
                                          </p:val>
                                        </p:tav>
                                      </p:tavLst>
                                    </p:anim>
                                    <p:anim calcmode="lin" valueType="num">
                                      <p:cBhvr additive="repl">
                                        <p:cTn id="103" dur="1000" fill="hold">
                                          <p:stCondLst>
                                            <p:cond delay="1000"/>
                                          </p:stCondLst>
                                        </p:cTn>
                                        <p:tgtEl>
                                          <p:spTgt spid="50">
                                            <p:txEl>
                                              <p:pRg st="0" end="0"/>
                                            </p:txEl>
                                          </p:spTgt>
                                        </p:tgtEl>
                                        <p:attrNameLst>
                                          <p:attrName>ppt_y</p:attrName>
                                        </p:attrNameLst>
                                      </p:cBhvr>
                                      <p:tavLst>
                                        <p:tav tm="0">
                                          <p:val>
                                            <p:strVal val="#ppt_y+.1"/>
                                          </p:val>
                                        </p:tav>
                                        <p:tav tm="100000">
                                          <p:val>
                                            <p:strVal val="#ppt_y"/>
                                          </p:val>
                                        </p:tav>
                                      </p:tavLst>
                                    </p:anim>
                                    <p:animEffect filter="fade" transition="in">
                                      <p:cBhvr additive="repl">
                                        <p:cTn id="104" dur="2000">
                                          <p:stCondLst>
                                            <p:cond delay="0"/>
                                          </p:stCondLst>
                                        </p:cTn>
                                        <p:tgtEl>
                                          <p:spTgt spid="50">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5">
                                  <p:stCondLst>
                                    <p:cond delay="0"/>
                                  </p:stCondLst>
                                  <p:childTnLst>
                                    <p:set>
                                      <p:cBhvr>
                                        <p:cTn id="108" dur="1" fill="hold">
                                          <p:stCondLst>
                                            <p:cond delay="0"/>
                                          </p:stCondLst>
                                        </p:cTn>
                                        <p:tgtEl>
                                          <p:spTgt spid="50">
                                            <p:txEl>
                                              <p:pRg st="1" end="1"/>
                                            </p:txEl>
                                          </p:spTgt>
                                        </p:tgtEl>
                                        <p:attrNameLst>
                                          <p:attrName>style.visibility</p:attrName>
                                        </p:attrNameLst>
                                      </p:cBhvr>
                                      <p:to>
                                        <p:strVal val="visible"/>
                                      </p:to>
                                    </p:set>
                                    <p:anim calcmode="lin" valueType="num">
                                      <p:cBhvr additive="repl">
                                        <p:cTn id="109" dur="1000" fill="hold">
                                          <p:stCondLst>
                                            <p:cond delay="0"/>
                                          </p:stCondLst>
                                        </p:cTn>
                                        <p:tgtEl>
                                          <p:spTgt spid="50">
                                            <p:txEl>
                                              <p:pRg st="1" end="1"/>
                                            </p:txEl>
                                          </p:spTgt>
                                        </p:tgtEl>
                                        <p:attrNameLst>
                                          <p:attrName>r</p:attrName>
                                        </p:attrNameLst>
                                      </p:cBhvr>
                                      <p:tavLst>
                                        <p:tav tm="0">
                                          <p:val>
                                            <p:strVal val="-90"/>
                                          </p:val>
                                        </p:tav>
                                        <p:tav tm="100000">
                                          <p:val>
                                            <p:strVal val="0"/>
                                          </p:val>
                                        </p:tav>
                                      </p:tavLst>
                                    </p:anim>
                                    <p:anim calcmode="lin" valueType="num">
                                      <p:cBhvr additive="repl">
                                        <p:cTn id="110" dur="1000" fill="hold">
                                          <p:stCondLst>
                                            <p:cond delay="0"/>
                                          </p:stCondLst>
                                        </p:cTn>
                                        <p:tgtEl>
                                          <p:spTgt spid="50">
                                            <p:txEl>
                                              <p:pRg st="1" end="1"/>
                                            </p:txEl>
                                          </p:spTgt>
                                        </p:tgtEl>
                                        <p:attrNameLst>
                                          <p:attrName>ppt_w</p:attrName>
                                        </p:attrNameLst>
                                      </p:cBhvr>
                                      <p:tavLst>
                                        <p:tav tm="0">
                                          <p:val>
                                            <p:strVal val="#ppt_w"/>
                                          </p:val>
                                        </p:tav>
                                        <p:tav tm="100000">
                                          <p:val>
                                            <p:strVal val="#ppt_w*.05"/>
                                          </p:val>
                                        </p:tav>
                                      </p:tavLst>
                                    </p:anim>
                                    <p:anim calcmode="lin" valueType="num">
                                      <p:cBhvr additive="repl">
                                        <p:cTn id="111" dur="1000" fill="hold">
                                          <p:stCondLst>
                                            <p:cond delay="1000"/>
                                          </p:stCondLst>
                                        </p:cTn>
                                        <p:tgtEl>
                                          <p:spTgt spid="50">
                                            <p:txEl>
                                              <p:pRg st="1" end="1"/>
                                            </p:txEl>
                                          </p:spTgt>
                                        </p:tgtEl>
                                        <p:attrNameLst>
                                          <p:attrName>ppt_w</p:attrName>
                                        </p:attrNameLst>
                                      </p:cBhvr>
                                      <p:tavLst>
                                        <p:tav tm="0">
                                          <p:val>
                                            <p:strVal val="#ppt_w*.05"/>
                                          </p:val>
                                        </p:tav>
                                        <p:tav tm="100000">
                                          <p:val>
                                            <p:strVal val="#ppt_w"/>
                                          </p:val>
                                        </p:tav>
                                      </p:tavLst>
                                    </p:anim>
                                    <p:anim calcmode="lin" valueType="num">
                                      <p:cBhvr additive="repl">
                                        <p:cTn id="112" dur="2000" fill="hold"/>
                                        <p:tgtEl>
                                          <p:spTgt spid="50">
                                            <p:txEl>
                                              <p:pRg st="1" end="1"/>
                                            </p:txEl>
                                          </p:spTgt>
                                        </p:tgtEl>
                                        <p:attrNameLst>
                                          <p:attrName>ppt_h</p:attrName>
                                        </p:attrNameLst>
                                      </p:cBhvr>
                                      <p:tavLst>
                                        <p:tav tm="0">
                                          <p:val>
                                            <p:strVal val="#ppt_h"/>
                                          </p:val>
                                        </p:tav>
                                        <p:tav tm="100000">
                                          <p:val>
                                            <p:strVal val="#ppt_h"/>
                                          </p:val>
                                        </p:tav>
                                      </p:tavLst>
                                    </p:anim>
                                    <p:anim calcmode="lin" valueType="num">
                                      <p:cBhvr additive="repl">
                                        <p:cTn id="113" dur="1000" fill="hold">
                                          <p:stCondLst>
                                            <p:cond delay="0"/>
                                          </p:stCondLst>
                                        </p:cTn>
                                        <p:tgtEl>
                                          <p:spTgt spid="50">
                                            <p:txEl>
                                              <p:pRg st="1" end="1"/>
                                            </p:txEl>
                                          </p:spTgt>
                                        </p:tgtEl>
                                        <p:attrNameLst>
                                          <p:attrName>ppt_x</p:attrName>
                                        </p:attrNameLst>
                                      </p:cBhvr>
                                      <p:tavLst>
                                        <p:tav tm="0">
                                          <p:val>
                                            <p:strVal val="#ppt_x+.4"/>
                                          </p:val>
                                        </p:tav>
                                        <p:tav tm="100000">
                                          <p:val>
                                            <p:strVal val="#ppt_x"/>
                                          </p:val>
                                        </p:tav>
                                      </p:tavLst>
                                    </p:anim>
                                    <p:anim calcmode="lin" valueType="num">
                                      <p:cBhvr additive="repl">
                                        <p:cTn id="114" dur="1000" fill="hold">
                                          <p:stCondLst>
                                            <p:cond delay="0"/>
                                          </p:stCondLst>
                                        </p:cTn>
                                        <p:tgtEl>
                                          <p:spTgt spid="50">
                                            <p:txEl>
                                              <p:pRg st="1" end="1"/>
                                            </p:txEl>
                                          </p:spTgt>
                                        </p:tgtEl>
                                        <p:attrNameLst>
                                          <p:attrName>ppt_y</p:attrName>
                                        </p:attrNameLst>
                                      </p:cBhvr>
                                      <p:tavLst>
                                        <p:tav tm="0">
                                          <p:val>
                                            <p:strVal val="#ppt_y-.2"/>
                                          </p:val>
                                        </p:tav>
                                        <p:tav tm="100000">
                                          <p:val>
                                            <p:strVal val="#ppt_y+.1"/>
                                          </p:val>
                                        </p:tav>
                                      </p:tavLst>
                                    </p:anim>
                                    <p:anim calcmode="lin" valueType="num">
                                      <p:cBhvr additive="repl">
                                        <p:cTn id="115" dur="1000" fill="hold">
                                          <p:stCondLst>
                                            <p:cond delay="1000"/>
                                          </p:stCondLst>
                                        </p:cTn>
                                        <p:tgtEl>
                                          <p:spTgt spid="50">
                                            <p:txEl>
                                              <p:pRg st="1" end="1"/>
                                            </p:txEl>
                                          </p:spTgt>
                                        </p:tgtEl>
                                        <p:attrNameLst>
                                          <p:attrName>ppt_y</p:attrName>
                                        </p:attrNameLst>
                                      </p:cBhvr>
                                      <p:tavLst>
                                        <p:tav tm="0">
                                          <p:val>
                                            <p:strVal val="#ppt_y+.1"/>
                                          </p:val>
                                        </p:tav>
                                        <p:tav tm="100000">
                                          <p:val>
                                            <p:strVal val="#ppt_y"/>
                                          </p:val>
                                        </p:tav>
                                      </p:tavLst>
                                    </p:anim>
                                    <p:animEffect filter="fade" transition="in">
                                      <p:cBhvr additive="repl">
                                        <p:cTn id="116" dur="2000">
                                          <p:stCondLst>
                                            <p:cond delay="0"/>
                                          </p:stCondLst>
                                        </p:cTn>
                                        <p:tgtEl>
                                          <p:spTgt spid="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s of IV</a:t>
            </a:r>
            <a:endParaRPr b="0" lang="en-US" sz="4400" spc="-1" strike="noStrike">
              <a:solidFill>
                <a:srgbClr val="000000"/>
              </a:solidFill>
              <a:latin typeface="Arial"/>
            </a:endParaRPr>
          </a:p>
        </p:txBody>
      </p:sp>
      <p:graphicFrame>
        <p:nvGraphicFramePr>
          <p:cNvPr id="52" name=""/>
          <p:cNvGraphicFramePr/>
          <p:nvPr/>
        </p:nvGraphicFramePr>
        <p:xfrm>
          <a:off x="457200" y="2133720"/>
          <a:ext cx="8229600" cy="2209680"/>
        </p:xfrm>
        <a:graphic>
          <a:graphicData uri="http://schemas.openxmlformats.org/drawingml/2006/table">
            <a:tbl>
              <a:tblPr/>
              <a:tblGrid>
                <a:gridCol w="2743200"/>
                <a:gridCol w="2743200"/>
                <a:gridCol w="2743200"/>
              </a:tblGrid>
              <a:tr h="1105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om Temperatur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 degrees Celsius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e wate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0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ri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ri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ria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 name=""/>
          <p:cNvSpPr/>
          <p:nvPr/>
        </p:nvSpPr>
        <p:spPr>
          <a:xfrm>
            <a:off x="533520" y="1676520"/>
            <a:ext cx="2666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5">
                                  <p:stCondLst>
                                    <p:cond delay="0"/>
                                  </p:stCondLst>
                                  <p:childTnLst>
                                    <p:set>
                                      <p:cBhvr>
                                        <p:cTn id="122" dur="1" fill="hold">
                                          <p:stCondLst>
                                            <p:cond delay="0"/>
                                          </p:stCondLst>
                                        </p:cTn>
                                        <p:tgtEl>
                                          <p:spTgt spid="51"/>
                                        </p:tgtEl>
                                        <p:attrNameLst>
                                          <p:attrName>style.visibility</p:attrName>
                                        </p:attrNameLst>
                                      </p:cBhvr>
                                      <p:to>
                                        <p:strVal val="visible"/>
                                      </p:to>
                                    </p:set>
                                    <p:anim calcmode="lin" valueType="num">
                                      <p:cBhvr additive="repl">
                                        <p:cTn id="123" dur="500" fill="hold">
                                          <p:stCondLst>
                                            <p:cond delay="0"/>
                                          </p:stCondLst>
                                        </p:cTn>
                                        <p:tgtEl>
                                          <p:spTgt spid="51"/>
                                        </p:tgtEl>
                                        <p:attrNameLst>
                                          <p:attrName>r</p:attrName>
                                        </p:attrNameLst>
                                      </p:cBhvr>
                                      <p:tavLst>
                                        <p:tav tm="0">
                                          <p:val>
                                            <p:strVal val="-90"/>
                                          </p:val>
                                        </p:tav>
                                        <p:tav tm="100000">
                                          <p:val>
                                            <p:strVal val="0"/>
                                          </p:val>
                                        </p:tav>
                                      </p:tavLst>
                                    </p:anim>
                                    <p:anim calcmode="lin" valueType="num">
                                      <p:cBhvr additive="repl">
                                        <p:cTn id="124" dur="500" fill="hold">
                                          <p:stCondLst>
                                            <p:cond delay="0"/>
                                          </p:stCondLst>
                                        </p:cTn>
                                        <p:tgtEl>
                                          <p:spTgt spid="51"/>
                                        </p:tgtEl>
                                        <p:attrNameLst>
                                          <p:attrName>ppt_w</p:attrName>
                                        </p:attrNameLst>
                                      </p:cBhvr>
                                      <p:tavLst>
                                        <p:tav tm="0">
                                          <p:val>
                                            <p:strVal val="#ppt_w"/>
                                          </p:val>
                                        </p:tav>
                                        <p:tav tm="100000">
                                          <p:val>
                                            <p:strVal val="#ppt_w*.05"/>
                                          </p:val>
                                        </p:tav>
                                      </p:tavLst>
                                    </p:anim>
                                    <p:anim calcmode="lin" valueType="num">
                                      <p:cBhvr additive="repl">
                                        <p:cTn id="125" dur="500" fill="hold">
                                          <p:stCondLst>
                                            <p:cond delay="500"/>
                                          </p:stCondLst>
                                        </p:cTn>
                                        <p:tgtEl>
                                          <p:spTgt spid="51"/>
                                        </p:tgtEl>
                                        <p:attrNameLst>
                                          <p:attrName>ppt_w</p:attrName>
                                        </p:attrNameLst>
                                      </p:cBhvr>
                                      <p:tavLst>
                                        <p:tav tm="0">
                                          <p:val>
                                            <p:strVal val="#ppt_w*.05"/>
                                          </p:val>
                                        </p:tav>
                                        <p:tav tm="100000">
                                          <p:val>
                                            <p:strVal val="#ppt_w"/>
                                          </p:val>
                                        </p:tav>
                                      </p:tavLst>
                                    </p:anim>
                                    <p:anim calcmode="lin" valueType="num">
                                      <p:cBhvr additive="repl">
                                        <p:cTn id="126" dur="1000" fill="hold"/>
                                        <p:tgtEl>
                                          <p:spTgt spid="51"/>
                                        </p:tgtEl>
                                        <p:attrNameLst>
                                          <p:attrName>ppt_h</p:attrName>
                                        </p:attrNameLst>
                                      </p:cBhvr>
                                      <p:tavLst>
                                        <p:tav tm="0">
                                          <p:val>
                                            <p:strVal val="#ppt_h"/>
                                          </p:val>
                                        </p:tav>
                                        <p:tav tm="100000">
                                          <p:val>
                                            <p:strVal val="#ppt_h"/>
                                          </p:val>
                                        </p:tav>
                                      </p:tavLst>
                                    </p:anim>
                                    <p:anim calcmode="lin" valueType="num">
                                      <p:cBhvr additive="repl">
                                        <p:cTn id="127" dur="500" fill="hold">
                                          <p:stCondLst>
                                            <p:cond delay="0"/>
                                          </p:stCondLst>
                                        </p:cTn>
                                        <p:tgtEl>
                                          <p:spTgt spid="51"/>
                                        </p:tgtEl>
                                        <p:attrNameLst>
                                          <p:attrName>ppt_x</p:attrName>
                                        </p:attrNameLst>
                                      </p:cBhvr>
                                      <p:tavLst>
                                        <p:tav tm="0">
                                          <p:val>
                                            <p:strVal val="#ppt_x+.4"/>
                                          </p:val>
                                        </p:tav>
                                        <p:tav tm="100000">
                                          <p:val>
                                            <p:strVal val="#ppt_x"/>
                                          </p:val>
                                        </p:tav>
                                      </p:tavLst>
                                    </p:anim>
                                    <p:anim calcmode="lin" valueType="num">
                                      <p:cBhvr additive="repl">
                                        <p:cTn id="128" dur="500" fill="hold">
                                          <p:stCondLst>
                                            <p:cond delay="0"/>
                                          </p:stCondLst>
                                        </p:cTn>
                                        <p:tgtEl>
                                          <p:spTgt spid="51"/>
                                        </p:tgtEl>
                                        <p:attrNameLst>
                                          <p:attrName>ppt_y</p:attrName>
                                        </p:attrNameLst>
                                      </p:cBhvr>
                                      <p:tavLst>
                                        <p:tav tm="0">
                                          <p:val>
                                            <p:strVal val="#ppt_y-.2"/>
                                          </p:val>
                                        </p:tav>
                                        <p:tav tm="100000">
                                          <p:val>
                                            <p:strVal val="#ppt_y+.1"/>
                                          </p:val>
                                        </p:tav>
                                      </p:tavLst>
                                    </p:anim>
                                    <p:anim calcmode="lin" valueType="num">
                                      <p:cBhvr additive="repl">
                                        <p:cTn id="129" dur="500" fill="hold">
                                          <p:stCondLst>
                                            <p:cond delay="500"/>
                                          </p:stCondLst>
                                        </p:cTn>
                                        <p:tgtEl>
                                          <p:spTgt spid="51"/>
                                        </p:tgtEl>
                                        <p:attrNameLst>
                                          <p:attrName>ppt_y</p:attrName>
                                        </p:attrNameLst>
                                      </p:cBhvr>
                                      <p:tavLst>
                                        <p:tav tm="0">
                                          <p:val>
                                            <p:strVal val="#ppt_y+.1"/>
                                          </p:val>
                                        </p:tav>
                                        <p:tav tm="100000">
                                          <p:val>
                                            <p:strVal val="#ppt_y"/>
                                          </p:val>
                                        </p:tav>
                                      </p:tavLst>
                                    </p:anim>
                                    <p:animEffect filter="fade" transition="in">
                                      <p:cBhvr additive="repl">
                                        <p:cTn id="130" dur="1000">
                                          <p:stCondLst>
                                            <p:cond delay="0"/>
                                          </p:stCondLst>
                                        </p:cTn>
                                        <p:tgtEl>
                                          <p:spTgt spid="5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8" presetSubtype="16">
                                  <p:stCondLst>
                                    <p:cond delay="0"/>
                                  </p:stCondLst>
                                  <p:childTnLst>
                                    <p:set>
                                      <p:cBhvr>
                                        <p:cTn id="134" dur="1" fill="hold">
                                          <p:stCondLst>
                                            <p:cond delay="0"/>
                                          </p:stCondLst>
                                        </p:cTn>
                                        <p:tgtEl>
                                          <p:spTgt spid="53">
                                            <p:txEl>
                                              <p:pRg st="0" end="0"/>
                                            </p:txEl>
                                          </p:spTgt>
                                        </p:tgtEl>
                                        <p:attrNameLst>
                                          <p:attrName>style.visibility</p:attrName>
                                        </p:attrNameLst>
                                      </p:cBhvr>
                                      <p:to>
                                        <p:strVal val="visible"/>
                                      </p:to>
                                    </p:set>
                                    <p:animEffect filter="diamond(in)" transition="in">
                                      <p:cBhvr additive="repl">
                                        <p:cTn id="135" dur="2000"/>
                                        <p:tgtEl>
                                          <p:spTgt spid="53">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4" presetSubtype="10">
                                  <p:stCondLst>
                                    <p:cond delay="0"/>
                                  </p:stCondLst>
                                  <p:childTnLst>
                                    <p:set>
                                      <p:cBhvr>
                                        <p:cTn id="139" dur="1" fill="hold">
                                          <p:stCondLst>
                                            <p:cond delay="0"/>
                                          </p:stCondLst>
                                        </p:cTn>
                                        <p:tgtEl>
                                          <p:spTgt spid="52"/>
                                        </p:tgtEl>
                                        <p:attrNameLst>
                                          <p:attrName>style.visibility</p:attrName>
                                        </p:attrNameLst>
                                      </p:cBhvr>
                                      <p:to>
                                        <p:strVal val="visible"/>
                                      </p:to>
                                    </p:set>
                                    <p:animEffect filter="randombar(horizontal)" transition="in">
                                      <p:cBhvr additive="repl">
                                        <p:cTn id="140"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5050"/>
            </a:gs>
            <a:gs pos="100000">
              <a:srgbClr val="ffff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ant</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constants included the same source of water, the same ice, and the same equi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009999"/>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hesis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add two liquids of different temperature together, you will get the average of the two liqui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mph" presetID="36">
                                  <p:stCondLst>
                                    <p:cond delay="0"/>
                                  </p:stCondLst>
                                  <p:iterate type="lt">
                                    <p:tmAbs val="25"/>
                                  </p:iterate>
                                  <p:childTnLst>
                                    <p:animScale>
                                      <p:cBhvr>
                                        <p:cTn id="146" dur="250" autoRev="1" fill="hold">
                                          <p:stCondLst>
                                            <p:cond delay="0"/>
                                          </p:stCondLst>
                                        </p:cTn>
                                        <p:tgtEl>
                                          <p:spTgt spid="56"/>
                                        </p:tgtEl>
                                      </p:cBhvr>
                                      <p:to x="80000" y="100000"/>
                                    </p:animScale>
                                    <p:anim calcmode="lin" valueType="num" by="(#ppt_w*0.10)">
                                      <p:cBhvr additive="repl">
                                        <p:cTn id="147" dur="250" autoRev="1" fill="hold">
                                          <p:stCondLst>
                                            <p:cond delay="0"/>
                                          </p:stCondLst>
                                        </p:cTn>
                                        <p:tgtEl>
                                          <p:spTgt spid="56"/>
                                        </p:tgtEl>
                                        <p:attrNameLst>
                                          <p:attrName>ppt_x</p:attrName>
                                        </p:attrNameLst>
                                      </p:cBhvr>
                                    </p:anim>
                                    <p:anim calcmode="lin" valueType="num" by="(-#ppt_w*0.10)">
                                      <p:cBhvr additive="repl">
                                        <p:cTn id="148" dur="250" autoRev="1" fill="hold">
                                          <p:stCondLst>
                                            <p:cond delay="0"/>
                                          </p:stCondLst>
                                        </p:cTn>
                                        <p:tgtEl>
                                          <p:spTgt spid="56"/>
                                        </p:tgtEl>
                                        <p:attrNameLst>
                                          <p:attrName>ppt_y</p:attrName>
                                        </p:attrNameLst>
                                      </p:cBhvr>
                                    </p:anim>
                                    <p:animRot by="-480000">
                                      <p:cBhvr>
                                        <p:cTn id="149" dur="250" autoRev="1" fill="hold">
                                          <p:stCondLst>
                                            <p:cond delay="0"/>
                                          </p:stCondLst>
                                        </p:cTn>
                                        <p:tgtEl>
                                          <p:spTgt spid="56"/>
                                        </p:tgtEl>
                                        <p:attrNameLst>
                                          <p:attrName>r</p:attrName>
                                        </p:attrNameLst>
                                      </p:cBhvr>
                                    </p:animRo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1">
                                  <p:stCondLst>
                                    <p:cond delay="0"/>
                                  </p:stCondLst>
                                  <p:iterate type="lt">
                                    <p:tmAbs val="50"/>
                                  </p:iterate>
                                  <p:childTnLst>
                                    <p:set>
                                      <p:cBhvr>
                                        <p:cTn id="153" dur="1" fill="hold">
                                          <p:stCondLst>
                                            <p:cond delay="0"/>
                                          </p:stCondLst>
                                        </p:cTn>
                                        <p:tgtEl>
                                          <p:spTgt spid="57">
                                            <p:txEl>
                                              <p:pRg st="0" end="0"/>
                                            </p:txEl>
                                          </p:spTgt>
                                        </p:tgtEl>
                                        <p:attrNameLst>
                                          <p:attrName>style.visibility</p:attrName>
                                        </p:attrNameLst>
                                      </p:cBhvr>
                                      <p:to>
                                        <p:strVal val="visible"/>
                                      </p:to>
                                    </p:set>
                                    <p:anim calcmode="lin" valueType="num">
                                      <p:cBhvr additive="repl">
                                        <p:cTn id="154" dur="500" fill="hold"/>
                                        <p:tgtEl>
                                          <p:spTgt spid="5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5" dur="500" fill="hold"/>
                                        <p:tgtEl>
                                          <p:spTgt spid="57">
                                            <p:txEl>
                                              <p:pRg st="0" end="0"/>
                                            </p:txEl>
                                          </p:spTgt>
                                        </p:tgtEl>
                                        <p:attrNameLst>
                                          <p:attrName>ppt_y</p:attrName>
                                        </p:attrNameLst>
                                      </p:cBhvr>
                                      <p:tavLst>
                                        <p:tav tm="0">
                                          <p:val>
                                            <p:strVal val="#ppt_y"/>
                                          </p:val>
                                        </p:tav>
                                        <p:tav tm="100000">
                                          <p:val>
                                            <p:strVal val="#ppt_y"/>
                                          </p:val>
                                        </p:tav>
                                      </p:tavLst>
                                    </p:anim>
                                    <p:anim calcmode="lin" valueType="num">
                                      <p:cBhvr additive="repl">
                                        <p:cTn id="156" dur="500" fill="hold"/>
                                        <p:tgtEl>
                                          <p:spTgt spid="5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7" dur="500" fill="hold"/>
                                        <p:tgtEl>
                                          <p:spTgt spid="5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8" dur="500"/>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ur experiment, our results showed that when we mixed hot water (80 degrees C) with cold water (4.2 degrees C) we got a mixed temperature of 41.1 degrees C. It also showed that when we mixed room temperature water (21.5 degrees C) with the hot water (80 degrees C) we got temperature of 46.5 degrees C. Then, when we mixed the normal water with the cold water we got a temperature of 41.1 degrees C. Finally, when we mixed all 3 we got a temperature of 27.9 degrees C. Before we started this experiment, we thought that when you added to liquids together, you would get the average temperature of the two. We were mistaken though because we put the water into glass beakers which absorbed some of the thermal energy meaning that the temperature would go up higher than expected. Our results showed that when we added two liquids together we would get the average temperature of the two. The thermal energy from the water would transfer into the glass beaker, lowering the temperature of the water. This shows that when you add two liquids together, the temperature will always be a little less than the average of the two, taking into consideration the factors abov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4" presetSubtype="10">
                                  <p:stCondLst>
                                    <p:cond delay="0"/>
                                  </p:stCondLst>
                                  <p:childTnLst>
                                    <p:set>
                                      <p:cBhvr>
                                        <p:cTn id="164" dur="1" fill="hold">
                                          <p:stCondLst>
                                            <p:cond delay="0"/>
                                          </p:stCondLst>
                                        </p:cTn>
                                        <p:tgtEl>
                                          <p:spTgt spid="58"/>
                                        </p:tgtEl>
                                        <p:attrNameLst>
                                          <p:attrName>style.visibility</p:attrName>
                                        </p:attrNameLst>
                                      </p:cBhvr>
                                      <p:to>
                                        <p:strVal val="visible"/>
                                      </p:to>
                                    </p:set>
                                    <p:animEffect filter="randombar(horizontal)" transition="in">
                                      <p:cBhvr additive="repl">
                                        <p:cTn id="165" dur="500"/>
                                        <p:tgtEl>
                                          <p:spTgt spid="58"/>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59">
                                            <p:txEl>
                                              <p:pRg st="0" end="0"/>
                                            </p:txEl>
                                          </p:spTgt>
                                        </p:tgtEl>
                                        <p:attrNameLst>
                                          <p:attrName>style.visibility</p:attrName>
                                        </p:attrNameLst>
                                      </p:cBhvr>
                                      <p:to>
                                        <p:strVal val="visible"/>
                                      </p:to>
                                    </p:set>
                                    <p:anim calcmode="lin" valueType="num">
                                      <p:cBhvr additive="base">
                                        <p:cTn id="170"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5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3T13:16:56Z</dcterms:created>
  <dc:creator>default</dc:creator>
  <dc:description/>
  <dc:language>en-US</dc:language>
  <cp:lastModifiedBy>default</cp:lastModifiedBy>
  <dcterms:modified xsi:type="dcterms:W3CDTF">2008-01-07T15:48:54Z</dcterms:modified>
  <cp:revision>6</cp:revision>
  <dc:subject/>
  <dc:title>Mixing waters</dc:title>
</cp:coreProperties>
</file>